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61844E-B5B2-4BA1-BBF7-75A33E998B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5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F1E8E6-06AB-4F44-8828-6051D0210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632DED7-E30C-4B6A-9574-CC91526515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F1DCCBB-5174-4113-8C6E-3E0F16FA1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5BC8B0A-17A1-46DB-B8EC-7D6224EAC2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6535B8-1BB9-48A6-895C-907809173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EBC6BDB-4B0B-40C0-B0C0-AA45DAB84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AB36BBF-F8DD-4201-8711-3632087B6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1D624C-8005-4620-AFE5-7985B5280B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34BE37-9113-4376-A9B1-06DD90EBC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BC4AD92-C7CA-4744-848F-325E960F3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EE4464-EC03-4284-9F39-4CA77505B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F0A4DE-D105-4541-8696-F958854814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151B2E-29A1-4730-8683-6CDF7F1D2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E298520-5E16-4367-8311-3582B51FA5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CD6C66-FD9B-46E1-8599-A825BE1C5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19A020-022C-4660-B965-9BAD9A3D17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44CA24-AFD8-4F83-912C-CC96FF86B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D81D47F-70FD-4865-A209-76CF5799D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24B443C-42EF-492C-83A9-B4FD4AC76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BA097DF-AB38-4EBA-95BA-5791C84696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C848AA-98C3-4ED4-849F-82050A1F5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9A51AA-0694-482D-9DB1-B46C5F56A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96F6D8-029C-4FAA-9D4E-F5FA6AB78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26EC19-8FF3-468B-BD86-BD47DC3374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222AAB-927F-42FB-AB2D-407AB9D2D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1CEF002-1649-4F3C-AE1A-101B93449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E78DDAB-49FB-44D0-8DA1-19302C668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27C482-E676-4836-B4D0-788F85C66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C1F5C9-611D-475C-9D65-DCC3CB4A1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60026E-CC69-4E0C-B3A9-AF23A265B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F063E0-1ED4-4095-92CC-F62D0E9FC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368BE0B-BA0E-4786-84A3-A868B2CCD6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\10.14.8.1.1.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EAD8C2E-94A1-4A1B-AAD4-7FBB9E79C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4C40-D63B-4C38-97A9-E43D72022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56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BD68-A3A9-4FB4-9C11-D9C199552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56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56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400F-6EDE-4BF5-9AC5-BF344BC10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56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56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56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A494-CEA9-46B1-AFB1-B9508DFBB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80720" y="685440"/>
            <a:ext cx="678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56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4C08-7990-4B22-AE01-9587F5075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56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56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56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56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56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56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56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56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56DA-3C00-409D-8A3C-C38A06012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BD8F-DD26-4CD7-A6D9-DE3B78237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A3EB-4AC8-4780-A678-6549CA59A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0720" y="685440"/>
            <a:ext cx="678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E1E8-1B8C-44B8-AE9B-F7138C94A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56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DD54-0FD0-451A-8684-D9A2AD060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56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0282-85F1-4369-9B91-BBD2E21FF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56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BBAD-C70F-444B-BD7A-06F1186F5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80880" y="190440"/>
            <a:ext cx="8382240" cy="1409760"/>
            <a:chOff x="380880" y="190440"/>
            <a:chExt cx="8382240" cy="1409760"/>
          </a:xfrm>
        </p:grpSpPr>
        <p:graphicFrame>
          <p:nvGraphicFramePr>
            <p:cNvPr id="2" name="Object 4"/>
            <p:cNvGraphicFramePr/>
            <p:nvPr/>
          </p:nvGraphicFramePr>
          <p:xfrm>
            <a:off x="380880" y="304920"/>
            <a:ext cx="1611360" cy="105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304920"/>
                      <a:ext cx="1611360" cy="105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" name="Text Box 5"/>
            <p:cNvSpPr/>
            <p:nvPr/>
          </p:nvSpPr>
          <p:spPr>
            <a:xfrm>
              <a:off x="2787480" y="190440"/>
              <a:ext cx="325908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uropean Commission - DG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6"/>
            <p:cNvSpPr/>
            <p:nvPr/>
          </p:nvSpPr>
          <p:spPr>
            <a:xfrm>
              <a:off x="380880" y="160020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7"/>
          <p:cNvSpPr/>
          <p:nvPr/>
        </p:nvSpPr>
        <p:spPr>
          <a:xfrm>
            <a:off x="304920" y="63244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00"/>
              </a:spcBef>
              <a:buClr>
                <a:srgbClr val="33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00"/>
              </a:spcBef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00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B08E-2AF6-4A54-AEBB-56E03694FEA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5"/>
          <p:cNvGrpSpPr/>
          <p:nvPr/>
        </p:nvGrpSpPr>
        <p:grpSpPr>
          <a:xfrm>
            <a:off x="395280" y="260280"/>
            <a:ext cx="8381880" cy="1409760"/>
            <a:chOff x="395280" y="260280"/>
            <a:chExt cx="8381880" cy="1409760"/>
          </a:xfrm>
        </p:grpSpPr>
        <p:graphicFrame>
          <p:nvGraphicFramePr>
            <p:cNvPr id="48" name="Object 6"/>
            <p:cNvGraphicFramePr/>
            <p:nvPr/>
          </p:nvGraphicFramePr>
          <p:xfrm>
            <a:off x="395280" y="374760"/>
            <a:ext cx="1611000" cy="105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5280" y="374760"/>
                      <a:ext cx="1611000" cy="105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" name="Text Box 7"/>
            <p:cNvSpPr/>
            <p:nvPr/>
          </p:nvSpPr>
          <p:spPr>
            <a:xfrm>
              <a:off x="2601720" y="260280"/>
              <a:ext cx="2084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395280" y="167004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00"/>
              </a:spcBef>
              <a:buClr>
                <a:srgbClr val="33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00"/>
              </a:spcBef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00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2"/>
          </p:nvPr>
        </p:nvSpPr>
        <p:spPr>
          <a:xfrm>
            <a:off x="380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mical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7417080" cy="3000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th REACH CA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ussels, 25-26 September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Peter van der Zandt, European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468360" y="2781360"/>
            <a:ext cx="84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tatus of Review of Ann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9459-D7D1-4FE7-9767-0F85FCA473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alysis -  REACH TG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ata relating to PBT properties can be limited, especially for substances upto 100 tpa and does not allow for comparison with Annex XIII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n such cases screening criteria may be used. If substance meets screening criteria then further testing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f such testing is not scientifically necessary or possible then conclude that substance is a PBT / vPv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B082-63FF-48C3-B487-517CEC88D8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alysis -  REACH TG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ubstances are considered to be PBT/vPvB when all criteria are fulfilled. Even when a criterium is marginally not fulfilled, the overall evidence may justify the conclusion that the substance fulfils the Annex XIII cri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ubstances with PBT constituents at or above 0.1% (w/w) are regarded as PBTs/vPv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D698-2FF2-4209-A08A-649B542DBD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xt steps - op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ommission launched written CASG consultation asking views on 3 possible options for Annex XIII re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Option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aintain current Annex XIII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Option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dd screening criteria to the Annex XIII criteria and use the results of screening as indication of needs for further, well identified specific te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3. Option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Use Annex XIII criteria and allow for use of screening criteria and information relevant to identification of PBTs/vPvB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34B3-A18E-4BF3-8E4E-053ABA3B0F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utcome of written consult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ECHA: option 3 is most in line with experience and practice. Weight-of-evidence approach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ember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Option 1: 1 MS – no need to revise criteria, equivalent concern can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Option 3: 12 MS – in line with experience and needs in practice; 6 out of 12 MS made detailed comments to Option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2 MS required clarification of Op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ndustry: op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GOs: optio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B6C5-01C2-4DCB-BD73-BDDDEDB710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SG meeting 24 Sept 200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COM presented a draft proposal for amendment of Annex XIII as a room 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Proposal aiming to combine the need for legal clarity as well as need for using all information by weight of evidenc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Criteria, use for registration and authorisation, use of other information (screening and further information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CASG felt the proposal did not sufficiently reflect the concerns raised during written comm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Proposal discussed in detail in order to address issues ra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0517-A77F-4FDB-A545-DD42CEDD99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xt step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3200" spc="-1" strike="noStrike">
                <a:solidFill>
                  <a:srgbClr val="ffffff"/>
                </a:solidFill>
                <a:latin typeface="Times New Roman"/>
              </a:rPr>
              <a:t>CASG provides further comments until 9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3200" spc="-1" strike="noStrike">
                <a:solidFill>
                  <a:srgbClr val="ffffff"/>
                </a:solidFill>
                <a:latin typeface="Times New Roman"/>
              </a:rPr>
              <a:t>COM will provide revised proposal in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3200" spc="-1" strike="noStrike">
                <a:solidFill>
                  <a:srgbClr val="ffffff"/>
                </a:solidFill>
                <a:latin typeface="Times New Roman"/>
              </a:rPr>
              <a:t>CASG final meeting in first half Nov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3200" spc="-1" strike="noStrike">
                <a:solidFill>
                  <a:srgbClr val="ffffff"/>
                </a:solidFill>
                <a:latin typeface="Times New Roman"/>
              </a:rPr>
              <a:t>COM to finalise review – draft proposal in November and submit to 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44FF-E4A3-49FA-AAE4-A7558F3043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bg_homepage1"/>
          <p:cNvPicPr/>
          <p:nvPr/>
        </p:nvPicPr>
        <p:blipFill>
          <a:blip r:embed="rId1"/>
          <a:srcRect l="0" t="19568" r="62605" b="0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844920" y="5157720"/>
            <a:ext cx="72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 Black"/>
              </a:rPr>
              <a:t>http://e</a:t>
            </a: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c.e</a:t>
            </a:r>
            <a:r>
              <a:rPr b="0" sz="2000" spc="-1" strike="noStrike">
                <a:solidFill>
                  <a:srgbClr val="000000"/>
                </a:solidFill>
                <a:latin typeface="Arial Black"/>
              </a:rPr>
              <a:t>uropa.eu/comm/enterprise/chemicals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775440" y="4581360"/>
            <a:ext cx="75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 Black"/>
              </a:rPr>
              <a:t>http://e</a:t>
            </a: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c.e</a:t>
            </a:r>
            <a:r>
              <a:rPr b="0" sz="2000" spc="-1" strike="noStrike">
                <a:solidFill>
                  <a:srgbClr val="000000"/>
                </a:solidFill>
                <a:latin typeface="Arial Black"/>
              </a:rPr>
              <a:t>uropa.eu/comm/environment/chemicals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3276720" y="2997360"/>
            <a:ext cx="25905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hank you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539640" y="566100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 Black"/>
              </a:rPr>
              <a:t>http://ec.europa.eu/echa/reach_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B3B1-2E9A-42EC-8839-FB51023B07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806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8760" y="1628280"/>
            <a:ext cx="828648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nex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nex IV-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nex X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nex X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6329-E59B-44DB-92DD-71306B754D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806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8760" y="1628280"/>
            <a:ext cx="828648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Review of Annex I completed in May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Conclusion of review: no revision of Annex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COM will soon adopt a Communication which  summarizes the contents and conclusions of the review of Annexes I, IV and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nex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9BFC-6577-437B-91EC-DDFCEB59AF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806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8760" y="1628280"/>
            <a:ext cx="828648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COM proposal for Regulation amending Annexes IV and V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agreed by REACH Regulatory Committee 5 June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scrutiny period Council and EP ended 12 Sept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imes New Roman"/>
              </a:rPr>
              <a:t>Regulation to be adopted in first half Octo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Review will be summarized in Communication and Staff Working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COM is finalising draft guidance for Annex V, to be handed over to ECHA and will be put on Circa for CASG(Annexes)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nexes IV and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97AF-4489-4F4B-B474-1B7352AC05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806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8760" y="1628280"/>
            <a:ext cx="8286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COM review based on IR/CSA guidance in May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Consultation with CASG(Annexes), followed by 4th CA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Proposal for Regulation amending Annex XI section 3 setting criteria for justification EBW discussed in REACH Ctee and agreed on 2 Sept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Translations being finalised – submission Scrut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COM adoption to be expected in January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nex X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B72D-997B-425A-BD91-178D6DCEFE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nex XIII - Backgroun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714320"/>
            <a:ext cx="849636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rt. 138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e Commission – carry out a review of Annex XIII to assess adequacy of the criteria contained in that annex before 1 December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Recital 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view should take current and new experience into account and criteria amended as appropriate with a view to ensuring a high level of protection of human health and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CE4F-331D-4CA6-912A-9EB4BACFBA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mmission draft review July 200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sultation REACH CASG Annex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written consultation on review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Times New Roman"/>
              </a:rPr>
              <a:t>SG meetings in September and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nal draft review to be presented to REACH CAs by end of Nov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pending on the outcome COM may draft legislative proposal for amendment of the Ann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8584-362F-42E1-BB72-10340C3DAC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alysis -  REACH Annex 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e PBT and vPvB assessment is based on the comparison of available information with the Annex XIII criteri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f the available information is not sufficient to decide whether the substance is a PBT/vPvB, then other evidence (e.g. monitoring data) to be us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f info is only at Annex VII-VIII level, screening criteria can be used to decide whether further info is need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uch information not needed if registrant implements and communicates sufficient RMM and OC as if substance were a PBT/vPvB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BD88-592F-46A6-8945-6E1CD72122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781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alysis -  International Experi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714680"/>
            <a:ext cx="84963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e TCNES PBT group used all available information and compared with PBT criteria as well as screening criteri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27 substances identified as PBT / vPv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63 substances not PBT / vPv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6 with further information requirements (ESR 12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ow many of the 27 substances identified by the PBT group fulfil the Annex XIII criteri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ifferent analysis available: 16 - 2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Need to take into account international experience, POPs regulation and Stockholm Convention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0T13:16:41Z</dcterms:created>
  <dc:creator>Pierce</dc:creator>
  <dc:description/>
  <dc:language>en-US</dc:language>
  <cp:lastModifiedBy>Wayne Morris</cp:lastModifiedBy>
  <cp:lastPrinted>2003-09-22T08:35:48Z</cp:lastPrinted>
  <dcterms:modified xsi:type="dcterms:W3CDTF">2008-10-07T11:43:55Z</dcterms:modified>
  <cp:revision>793</cp:revision>
  <dc:subject/>
  <dc:title>Chemicals</dc:title>
</cp:coreProperties>
</file>