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9A425B-6B91-4B13-91F6-29EB9BAE3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623D1A-9AE4-458F-A328-1BE85D03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635B43-D154-410E-BC73-B574F034B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5946D3-68A3-43C8-B2C3-CD6572A2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A77BB2-1916-45F1-AE57-5C13125B7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690FE5-D141-4A95-B211-C563DF5C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6A1227-F15E-4A0E-9C06-993FAFB6C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7364AC-52E0-4DF1-BD50-03F7B7B9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460E75-40C2-477F-9CED-8DAF8CD82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B89B7A-7DBB-4320-97DC-2003571B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C68D32-3866-4627-AF4D-8330F226A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91DBF9-1E13-4AD9-A4BE-6B451270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23CCAE-2780-4437-9D68-CC5C290C6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7F4750-F25F-475E-99A7-7E52F931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91F161-CA3A-4C5D-A046-EC9D068D4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017F7E-C65B-4DFA-8085-0D31BD15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93961A-71B1-4989-B524-188482EE1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2E85EF-1A18-452D-B0CB-C530E5B3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CBDC07-EB37-4C17-A1C5-966F9CE25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8B7C0C-7CFC-46C6-9D0C-5B16154D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7A6A32-73ED-4336-BFEE-DA4705CE2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959170-58E1-40A0-B63D-85D4E4EA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ACA107-1607-4E83-BCD1-9881E25F4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79B6AA-E817-45ED-BEE5-1FB7E686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00077B-801C-489A-91B8-A9F440C59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5FB1FF-CAD0-4CF1-8676-DB8ED1B3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05B7C2-3D0A-493B-97BC-B535FA199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2F2A17-5AE8-488A-8C28-2AFE612B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265BBA-1D80-4FB4-ACE0-8D9BEFD20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78FE7D-191B-4485-96F2-74E69E4E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9223AC-E4CC-4F98-844B-F7D1F54E3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887ADD-9B69-4898-BD0F-A602CCCE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779DDF-738B-4F5D-AE49-0E9E8F82B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2612A3-2119-4B8B-80BE-CA4A6DE21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BACB-7035-4AA7-A618-D4E0CF79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4A1E-9F32-4BF3-B8FF-44A116543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0B79-965E-4751-8354-0295B7BFF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8468-192A-47E1-895C-C80B6B8F4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0720" y="685440"/>
            <a:ext cx="67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CBD4-85DE-46DD-947D-242E6B1F0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F0DA-2F22-42EA-8CC3-10BE9BC59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32CD-0185-4A6A-B329-74EC19272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520F-387F-4C92-AED3-A4C3DFDBB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0720" y="685440"/>
            <a:ext cx="67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4FA3-8403-40BB-8B20-EC5C40115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D765-449F-42E7-98C6-4DD823218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B503-B904-403B-B5FA-E55014174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1A32-E185-420A-9FD8-D78D4C014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90440"/>
            <a:ext cx="8382240" cy="1409760"/>
            <a:chOff x="380880" y="190440"/>
            <a:chExt cx="8382240" cy="1409760"/>
          </a:xfrm>
        </p:grpSpPr>
        <p:graphicFrame>
          <p:nvGraphicFramePr>
            <p:cNvPr id="2" name="Object 4"/>
            <p:cNvGraphicFramePr/>
            <p:nvPr/>
          </p:nvGraphicFramePr>
          <p:xfrm>
            <a:off x="380880" y="304920"/>
            <a:ext cx="1611360" cy="105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04920"/>
                      <a:ext cx="161136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Text Box 5"/>
            <p:cNvSpPr/>
            <p:nvPr/>
          </p:nvSpPr>
          <p:spPr>
            <a:xfrm>
              <a:off x="2787480" y="190440"/>
              <a:ext cx="325908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uropean Commission - DG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380880" y="160020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304920" y="6324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C9AB-E6C6-459B-80F9-F044C30CC3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5"/>
          <p:cNvGrpSpPr/>
          <p:nvPr/>
        </p:nvGrpSpPr>
        <p:grpSpPr>
          <a:xfrm>
            <a:off x="395280" y="260280"/>
            <a:ext cx="8381880" cy="1409760"/>
            <a:chOff x="395280" y="260280"/>
            <a:chExt cx="8381880" cy="1409760"/>
          </a:xfrm>
        </p:grpSpPr>
        <p:graphicFrame>
          <p:nvGraphicFramePr>
            <p:cNvPr id="48" name="Object 6"/>
            <p:cNvGraphicFramePr/>
            <p:nvPr/>
          </p:nvGraphicFramePr>
          <p:xfrm>
            <a:off x="395280" y="374760"/>
            <a:ext cx="1611000" cy="105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5280" y="374760"/>
                      <a:ext cx="161100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Text Box 7"/>
            <p:cNvSpPr/>
            <p:nvPr/>
          </p:nvSpPr>
          <p:spPr>
            <a:xfrm>
              <a:off x="2601720" y="260280"/>
              <a:ext cx="2084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95280" y="167004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2"/>
          </p:nvPr>
        </p:nvSpPr>
        <p:spPr>
          <a:xfrm>
            <a:off x="380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417080" cy="3000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th REACH CA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ussels, 25-26 September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eter van der Zandt, 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68360" y="2781360"/>
            <a:ext cx="84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tatus of Review of Ann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5301-723E-44F3-8BA2-957D4D3B0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TG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ata relating to PBT properties can be limited, especially for substances upto 100 tpa and does not allow for comparison with Annex XIII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 such cases screening criteria may be used. If substance meets screening criteria then further test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such testing is not scientifically necessary or possible then conclude that substance is a PBT / vPv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EC9-2BE9-46F7-9FFB-7E641BC8C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TG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bstances are considered to be PBT/vPvB when all criteria are fulfilled. Even when a criterium is marginally not fulfilled, the overall evidence may justify the conclusion that the substance fulfils the Annex XIII cri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bstances with PBT constituents at or above 0.1% (w/w) are regarded as PBTs/vPv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987-A5CF-46F7-B2AF-10D3F43847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steps - o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mmission launched written CASG consultation asking views on 3 possible options for Annex XIII re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aintain current Annex XIII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dd screening criteria to the Annex XIII criteria and use the results of screening as indication of needs for further, well identified specific t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. Option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Use Annex XIII criteria and allow for use of screening criteria and information relevant to identification of PBTs/vPv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345-C3FB-4540-8F40-F37ABFD32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utcome of written consul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CHA: option 3 is most in line with experience and practice. Weight-of-evidence approach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ember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ption 1: 1 MS – no need to revise criteria, equivalent concern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ption 3: 12 MS – in line with experience and needs in practice; 6 out of 12 MS made detailed comments to Option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 MS required clarification of Op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dustry: op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GOs: op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37B-D77E-42D4-A3ED-A1CC61ADB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G meeting 24 Sept 200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OM presented a draft proposal for amendment of Annex XIII as a room 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Proposal aiming to combine the need for legal clarity as well as need for using all information by weight of evidenc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riteria, use for registration and authorisation, use of other information (screening and further informatio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ASG felt the proposal did not sufficiently reflect the concerns raised during written com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Proposal discussed in detail in order to address issues ra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082-FD66-4BD0-9255-F6D49BE96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ASG provides further comments until 9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OM will provide revised proposal in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ASG final meeting in first half 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OM to finalise review – draft proposal in November and submit to 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A4F-5F3A-46B1-BBBA-7D2D92569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bg_homepage1"/>
          <p:cNvPicPr/>
          <p:nvPr/>
        </p:nvPicPr>
        <p:blipFill>
          <a:blip r:embed="rId1"/>
          <a:srcRect l="0" t="19568" r="62605" b="0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844920" y="5157720"/>
            <a:ext cx="72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http://e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c.e</a:t>
            </a: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uropa.eu/comm/enterprise/chemical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75440" y="458136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http://e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c.e</a:t>
            </a: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uropa.eu/comm/environment/chemical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3276720" y="2997360"/>
            <a:ext cx="25905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hank you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9640" y="5661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 Black"/>
              </a:rPr>
              <a:t>http://ec.europa.eu/echa/reach_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759-683E-41C6-9BB3-AC2B7A32B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IV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X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4F1-AAA6-4DE7-9E81-D1987AD18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view of Annex I completed in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nclusion of review: no revision of Annex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will soon adopt a Communication which  summarizes the contents and conclusions of the review of Annexes I, IV and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0B5C-8A53-404B-829D-C3913DE8B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M proposal for Regulation amending Annexes IV and 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agreed by REACH Regulatory Committee 5 Jun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scrutiny period Council and EP ended 12 Sept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Regulation to be adopted in first half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Review will be summarized in Communication and Staff Working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is finalising draft guidance for Annex V, to be handed over to ECHA and will be put on Circa for CASG(Annexes)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es IV and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223-8528-4D78-B14C-6E476B17C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M review based on IR/CSA guidance in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nsultation with CASG(Annexes), followed by 4th CA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Proposal for Regulation amending Annex XI section 3 setting criteria for justification EBW discussed in REACH Ctee and agreed on 2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Translations being finalised – submission Scru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adoption to be expected in January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D16-210F-4841-9F91-FBAB9ECC30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XIII - 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714320"/>
            <a:ext cx="849636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rt. 138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 Commission – carry out a review of Annex XIII to assess adequacy of the criteria contained in that annex before 1 December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cital 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view should take current and new experience into account and criteria amended as appropriate with a view to ensuring a high level of protection of human health and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0F7-E46E-4FD5-98D4-A182B2954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mmission draft review July 200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sultation REACH CASG Annex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written consultation on review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SG meetings in September and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nal draft review to be presented to REACH CAs by end of 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pending on the outcome COM may draft legislative proposal for amendment of the Ann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A6E-ACF9-4502-A1CD-E65301BAE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Annex 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PBT and vPvB assessment is based on the comparison of available information with the Annex XIII criteri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the available information is not sufficient to decide whether the substance is a PBT/vPvB, then other evidence (e.g. monitoring data) to be u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info is only at Annex VII-VIII level, screening criteria can be used to decide whether further info is need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ch information not needed if registrant implements and communicates sufficient RMM and OC as if substance were a PBT/vPv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118E-0220-441E-9236-9949275A4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International Exper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TCNES PBT group used all available information and compared with PBT criteria as well as screening criteri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7 substances identified as PBT / vPv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63 substances not PBT / vPv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6 with further information requirements (ESR 12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many of the 27 substances identified by the PBT group fulfil the Annex XIII criteri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ifferent analysis available: 16 - 2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Need to take into account international experience, POPs regulation and Stockholm Convention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13:16:41Z</dcterms:created>
  <dc:creator>Pierce</dc:creator>
  <dc:description/>
  <dc:language>en-US</dc:language>
  <cp:lastModifiedBy>Wayne Morris</cp:lastModifiedBy>
  <cp:lastPrinted>2003-09-22T08:35:48Z</cp:lastPrinted>
  <dcterms:modified xsi:type="dcterms:W3CDTF">2008-10-07T11:43:55Z</dcterms:modified>
  <cp:revision>793</cp:revision>
  <dc:subject/>
  <dc:title>Chemicals</dc:title>
</cp:coreProperties>
</file>