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71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2499-ED63-4B76-9974-B0EEB00798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2DDF-7092-48F2-98E2-3B64CA10FE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D7C1-AA93-4C86-8ACC-DA68DA3C65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-of-was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ere/when waste cease to be wast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im period when no end-of-waste criteria is available (2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ording (e.g. recycl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ver developments on Annex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AA85-B738-4763-B85D-4770626BF4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-of-was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ere/when waste cease to be wast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im period when no end-of-waste criteria is available (2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ording (e.g. recycl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ver developments on Annex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02CE-D319-4A42-9352-E6CD11D269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848040" y="943452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FC3DA04-FE04-4B19-8832-C301D3E01F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E31F-BD09-4002-AC5F-92F7A1C0FF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8C94-B9DF-439C-B546-EC9EB00F94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F8F4-25A1-4A7A-B698-2211C1A5FB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A+, ASORFERMET, AT, BDE, BDSV, BIR, BRB, CEMBUREAU, CEPI, CIWEM, CIWM, COMPOSTING, CY, DE, DK, EDANA, EERA, ERAMET, ESRG, ETRMA, EUPC, EUROFER, EUROMETAUX, FEAD, FNADE, FR, GEIR, IE, IT, NFU, NL, QPA, RAGNSELLS, Treibacher AG, UEPG/EPRA, UK, UN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industrial sector associations (CEMBUREAU, CEPI, EUROFER, EUROMETAUX, EDANA, ERAMET, QP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mobile industry ACEA+,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vidual type of waste (ESRG, ETRMA, EUPC, COMPOSTING, GEIR, UEPG/EPRA, UNPG ASORFERMET BD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management associations National (BDE, BRB, CIWEM, CIWM,, FN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management associations international-(e.g. EU+) BIR, EERA, F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mer Union: NF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ngle companies (RAGNSELLS, Treibacher 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   MS (AT, CY, DE, DK, FR, IE, IT, NL, U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3EE9-C913-443D-9702-E55DC32759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-of-was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ere/when waste cease to be wast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im period when no end-of-waste criteria is available (2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ording (e.g. recycl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ver developments on Annex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83BE-3AC0-40BF-B1DA-AB9D2B9BC2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b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osition of waste: variation and impurities –UVCB? (171). Cost of analysis (23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EINEICS entry available (162, 19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dentity obligation (19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meness (174, 1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for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low when waste stage is present? Difficulties (172, 190), Imports of waste (19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DS (178, 221, 2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9DCD-E0B8-4314-A16B-6B024285CE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71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a7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aa71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Signature-ENTR_EN_black"/>
          <p:cNvPicPr/>
          <p:nvPr/>
        </p:nvPicPr>
        <p:blipFill>
          <a:blip r:embed="rId3"/>
          <a:stretch/>
        </p:blipFill>
        <p:spPr>
          <a:xfrm>
            <a:off x="662040" y="6205680"/>
            <a:ext cx="1700280" cy="2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ckground PPT DG ENTR vA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0" y="112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aa7100"/>
                </a:solidFill>
                <a:latin typeface="Arial"/>
              </a:rPr>
              <a:t>Waste and recovered substances</a:t>
            </a:r>
            <a:br>
              <a:rPr sz="4400"/>
            </a:br>
            <a:r>
              <a:rPr b="1" lang="fr-FR" sz="4400" spc="-1" strike="noStrike">
                <a:solidFill>
                  <a:srgbClr val="aa7100"/>
                </a:solidFill>
                <a:latin typeface="Arial"/>
              </a:rPr>
              <a:t>CA/24/2008 rev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826920" y="3213000"/>
            <a:ext cx="77724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EACH CA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6 September 2008 – Brussels,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Signature-ENTR_EN_black"/>
          <p:cNvPicPr/>
          <p:nvPr/>
        </p:nvPicPr>
        <p:blipFill>
          <a:blip r:embed="rId2"/>
          <a:stretch/>
        </p:blipFill>
        <p:spPr>
          <a:xfrm>
            <a:off x="2746440" y="5245200"/>
            <a:ext cx="350496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24000" y="638172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is presentation does not necessarily reflect the official opinion of the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1111680" y="4767120"/>
            <a:ext cx="69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tto Linher &amp; Miquel A. Aguado-Monsone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– REACH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A brief summary of comments (4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osure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it necessary in all cases to specify specific RMM for the sub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meaning of “where relevan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A brief summary of comments (5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-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recovery (to non-waste substances/preparations) always manufactu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companies really have to pre-regis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implications of pre-regist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find out whether the substance has been registered (i.e. first indent of Article 2(7)(d) can apply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4"/>
          <p:cNvSpPr/>
          <p:nvPr/>
        </p:nvSpPr>
        <p:spPr>
          <a:xfrm>
            <a:off x="76320" y="647712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067C-202C-4542-9D3B-E28A9278190F}" type="datetime">
              <a:rPr b="0" lang="en-US" sz="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6934320" y="647712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FD11-E3B2-4861-B27F-25399E73BF0D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Next steps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/24/2008 rev.1 document should be seen as the first step to clarify the borderline between waste legislation and R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ll be made available on ENV and ENTR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ocument will be handed over to ECHA for further development and integration into guidance document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Content of the presentation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cument CA/24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ment of the document and comments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Aim of the document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the REACH obligations of recovered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face waste legislation and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re-)registration of recovered substa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recovery a manufacturing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recovered materials substances, preparations or artic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fety data 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Content of the document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us of waste in the context of 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onship ES and waste legislation, who applies R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irements for recovered substances under R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ation, pre-registration, information requirements, other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Development of the document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/24/2008 document discussed in the 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CA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40 comments from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908000" y="3295800"/>
            <a:ext cx="705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mments taken into account in revised document (CA/24/2008 rev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tailed response to comments provided in separate docu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(CA/24/2008 rev.1 – Ann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Comments to CA/24/2008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27813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7 sets of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27813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  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27813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8 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6b6b6b"/>
              </a:buClr>
              <a:buFont typeface="Arial"/>
              <a:buChar char="•"/>
              <a:tabLst>
                <a:tab algn="l" pos="27813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ustry sector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6b6b6b"/>
              </a:buClr>
              <a:buFont typeface="Arial"/>
              <a:buChar char="•"/>
              <a:tabLst>
                <a:tab algn="l" pos="27813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ional waste management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6b6b6b"/>
              </a:buClr>
              <a:buFont typeface="Arial"/>
              <a:buChar char="•"/>
              <a:tabLst>
                <a:tab algn="l" pos="27813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waste management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6b6b6b"/>
              </a:buClr>
              <a:buFont typeface="Arial"/>
              <a:buChar char="•"/>
              <a:tabLst>
                <a:tab algn="l" pos="27813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ociations representing individual types of was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6b6b6b"/>
              </a:buClr>
              <a:buFont typeface="Arial"/>
              <a:buChar char="•"/>
              <a:tabLst>
                <a:tab algn="l" pos="27813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w companies and one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A brief summary of comments (1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d-of-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/when does waste cease to be wast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recovery always lead to non-waste mater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im period when no end-of-waste criteria a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A brief summary of comments (2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tance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sition of waste: variation and impurities –UVCB? Cost o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EINECS entry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obl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to get safety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A brief summary of comments (3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ding (e.g. recyc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ver developments on Annex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vered aggre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vered poly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waste example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danc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Wayne Morris</cp:lastModifiedBy>
  <cp:lastPrinted>2008-06-02T19:37:29Z</cp:lastPrinted>
  <dcterms:modified xsi:type="dcterms:W3CDTF">2008-10-07T11:48:32Z</dcterms:modified>
  <cp:revision>59</cp:revision>
  <dc:subject/>
  <dc:title>Présentation PowerPoint</dc:title>
</cp:coreProperties>
</file>