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Click to move the slide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0FB6EE-3A4F-4854-9AAA-64A2BDBE00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996DFC-251C-418A-A2A1-07F73413D7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819EC2-9BAB-4E67-801A-0BA99A0346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10CA36-AF1D-4E78-9304-550FDF52FC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C47686-B304-4A78-9F79-A40BCD0929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10D175-383C-4B8B-9735-E0ECADF3E1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E7FC17-33CE-4A2E-ACB1-58A0B73AE4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D40175-F6EA-4EEC-98F5-EFF66AED04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BFD659-EA03-4BCA-BBC0-7D034B3104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56EB24-6A6B-49F6-8396-1F649C9E43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DA29D4-38F8-4C7C-AFEE-FCA21D6C15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199AF1-A96F-4690-B9A1-4D748BFF31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896A0C-8C6E-4FFF-B6E8-468A818050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F5B4C0-7A4E-45C0-89F8-1353E4811A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35D694-6205-45A3-A338-961F5FE8B0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031A07-CC9C-4C42-A222-CB54FB4067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9A9-B67A-4B87-BE9E-C629FFA9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41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69B-5205-4E93-8AED-241EA191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205-F821-443F-B662-8F7CE735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41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41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41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05A-A46F-468D-970D-9A93B4AE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1C6-2F10-4AC1-B8A7-240759D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9B2-1D73-4ABA-9C82-F65886F5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503-4D00-4144-B909-A20BCC5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196-3167-4B2B-ACE4-93797ED4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58323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41B-BF18-45DC-9C88-0587E78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3D8-946A-41C3-96D1-3EDD341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41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051-F6AC-43F4-8631-CEF057B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41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92B-0489-4871-BA5E-F70A5A4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E3D6-37FA-4E4C-9EC9-C0419590394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266920" cy="52560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395280" y="6093000"/>
            <a:ext cx="8353440" cy="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20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3366cc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rogress report on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Operations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4869000"/>
            <a:ext cx="712944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CH CA mee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6 September 2008, Bruss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mediate list of pre-registered substan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dy for pub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 ECHA website early October before the stakeholder worksho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12920" r="1181" b="36915"/>
          <a:stretch/>
        </p:blipFill>
        <p:spPr>
          <a:xfrm>
            <a:off x="1440" y="3141720"/>
            <a:ext cx="91602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40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gistrations, inquiries, PPORDs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700 dossiers (email &amp; registered mai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PORD: 361 - Germany 50%, France 19%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quiry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non phase-in substances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 3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strations: 83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mostly intermediat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ry dossier processed within deadl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Dossier statistics:</a:t>
            </a:r>
            <a:br>
              <a:rPr sz="2800"/>
            </a:b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22 September 2008</a:t>
            </a:r>
            <a:endParaRPr b="1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268280"/>
          <a:ext cx="8305920" cy="3179880"/>
        </p:xfrm>
        <a:graphic>
          <a:graphicData uri="http://schemas.openxmlformats.org/drawingml/2006/table">
            <a:tbl>
              <a:tblPr/>
              <a:tblGrid>
                <a:gridCol w="1384200"/>
                <a:gridCol w="1384560"/>
                <a:gridCol w="1384200"/>
                <a:gridCol w="1384200"/>
                <a:gridCol w="1384200"/>
                <a:gridCol w="138456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mission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"Initial"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pted for processing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ing the TCC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 dossier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quir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PORD notification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mediates (on site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mediates (transported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56"/>
          <p:cNvSpPr/>
          <p:nvPr/>
        </p:nvSpPr>
        <p:spPr>
          <a:xfrm>
            <a:off x="468360" y="4581360"/>
            <a:ext cx="8351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* Accepted for processing: number of dossiers containing the necessary information for processing them i.e. perform a completeness check. Examples of dossiers not accepted for processing are: dossiers without submission form, submission form not filled in correctly, information mismatch between the submission form and the IUCLID 5 dossier, company not signed up in REACH IT, same dossier submitted twice, no substance information, etc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40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gistrations, inquiries, PPORDs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ol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PORD TCC tool now onl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quiry TCC tool under develop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xt step: transition to REACH-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sting of the system until end of Septem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-drafting of SOP for processing submis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web pages and user manu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ual transitional procedures in early stage to secure submission and deadl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794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stem operational 24 hours/day since 1 June 200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 minor unscheduled downtimes (50 and 28 minut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lpdesk: 236 inciden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umber increasing rapid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s mostly related to user accounts issues, requests for deletion due to errors, advice for pre-registering substances without EC numbers…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r manuals and FAQ to provide specific assistance to indust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nections to Member States for 16 functio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6408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 for 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any sign-up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rd party representative sign-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-line and bulk pre-registr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reating a pre-registration on-l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ubmitting a pre-registration (on-line and bulk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iewing and downloading submission repor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pdating a pre-registration (except substance identity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verview of all your pre-registr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ccessing the pre-SIE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SIEF functional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7524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Bulk 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-3240" y="674640"/>
            <a:ext cx="915192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w release delivered on 8 Septe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ual submission procedures replaced for registrations, inquiries, PPORD notifications, and Annex XV dossi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line dossiers creation of PPORD notification and inquir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ignment and distribution of registration numbers for NONS (Directive 67/548/EEC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jor testing until end of Septe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REACH-IT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S train-the-trainer confirm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-2 Octo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 hand-on sessions 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creating a dossier using IUCLID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data submission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searching the REACH-IT database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ssignment and distribution of registration numbers for NON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IUCLID 5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xt features before end of year under current contra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NIF migration tool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Octobe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dvanced query tool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November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eration of CSR reports according to format published by ECHA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Novembe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b services for interfacing IUCLID with industry syste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ECD IUCLID User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oritisation of new feature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w contract in preparation to be signed before end of year for integrating new feat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Overview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-regist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gistration, PPORD, inqui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CH-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UCLID 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SA/CSR to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CSA/CSR tool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ol for preparing exposure scenarios and carrying out the chemical safety assessm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ll for tender completed - Start of work: October 200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rget date for initial version very challenging: autumn 2009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ver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traction of data from IUCLI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kflow support for building exposure scenario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osure estim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sk characteris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porting in the CS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64960" indent="-264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halfway through pre-registration perio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10.000 Companies from all 27 MS + EAA signed u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p countrie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Germany (2.000), UK (1.500), NL (1.000), </a:t>
            </a:r>
            <a:br>
              <a:rPr sz="24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France (900), Italy and Ireland (650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umber of sign-ups is increa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600 per week in Augus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800 per week in September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Arial"/>
              </a:rPr>
              <a:t>Legal entities signed up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003640" y="1541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otal = 9887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(22.9.200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-25560" y="765000"/>
            <a:ext cx="91346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k pre-registr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ided to limit to 500 substances per fi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erational since 22 July 2008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w the most used pre-registration metho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10% failure after submis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n-line pre-registration remains important: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gt;6.000 pre-registrations per week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imit of 10.000 on the number of substances that can be submitted without prior approv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11960" cy="5518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6049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Arial"/>
              </a:rPr>
              <a:t>Pre-registrations per week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19280" y="1341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otal = 374 812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(22.9.200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003640" y="9748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11641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381800" y="9748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98038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6480" y="738360"/>
            <a:ext cx="9129600" cy="5381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Arial"/>
              </a:rPr>
              <a:t>Pre-registrations</a:t>
            </a:r>
            <a:endParaRPr b="1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635280" y="19731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revised total = 188 185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(22.9.200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halfway through pre-registration perio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itial estimations already reached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More than 150.000 valid pre-registration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40.000 different substances pre-registered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p countrie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Germany (67.000), UK (40.000), NL (18.000), </a:t>
            </a:r>
            <a:br>
              <a:rPr sz="24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Italy (15.500), France (11.000) and Spain (10.000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 trading companies have pre-registered the complete EC li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ttp://echa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66cc"/>
                </a:solidFill>
                <a:uFillTx/>
                <a:latin typeface="Arial"/>
              </a:rPr>
              <a:t>Pre-registration</a:t>
            </a:r>
            <a:endParaRPr b="1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ws alert 19/09/2008 on issues o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who can appoint an 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registration of substances that are not phase-in substan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registrations covering the entire EC invento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-registrations with names that do not refer to any chemical nam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eleting a pre-regist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CHA limiting the number of substances that can be submitted via bulk pre-registration without prior approv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6:40:57Z</dcterms:created>
  <dc:creator>makelpe</dc:creator>
  <dc:description/>
  <dc:language>en-US</dc:language>
  <cp:lastModifiedBy>Wayne Morris</cp:lastModifiedBy>
  <dcterms:modified xsi:type="dcterms:W3CDTF">2008-10-07T11:46:05Z</dcterms:modified>
  <cp:revision>130</cp:revision>
  <dc:subject/>
  <dc:title>Slide 1</dc:title>
</cp:coreProperties>
</file>