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66cc"/>
                </a:solidFill>
                <a:uFillTx/>
                <a:latin typeface="Arial"/>
              </a:rPr>
              <a:t>Click to move the slide</a:t>
            </a:r>
            <a:endParaRPr b="1" lang="en-US" sz="32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BFEA5DF-AEFE-49CD-9213-5ABF4A4EFDC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567EE67-0600-4049-9BA3-697E5AB3994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9EEBEFD-C2E7-4473-910C-8834E676E3C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16279F7-8C8E-4155-B811-F4359491782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2D3CCAF-6F06-4A4D-B1E9-27330EF413A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FB8CB8A-903B-480A-881E-A28BD362DE2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CCCDB16-B78E-478E-8564-7EA93237D5D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E3FDAFA-A713-4174-8B2C-4A67573708D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FA0D992-529E-40FE-B60C-D7AE7A82322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BF91EB3-D743-4DB4-80A5-0DDA369783F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EBE9E5B-0646-491E-80F5-EC627C8AF9F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4037E38-CAC3-4347-904C-C300464AC4E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D1EFE30-21A8-4502-863E-CFFD1A5DB18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387ED4B-3B7E-4AFF-89E5-E09AB567F2E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4A17B26-6BB6-47CC-AE86-1A71457F9AF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DE0D658-B668-4A5C-892F-30FCF601A42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9B74-8580-40E1-989C-E6F1AE749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583236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4140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19F7-1681-4530-988B-B0937450C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583236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4140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4140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3987-741A-4D00-8F30-DC10AAF03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583236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4140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4140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4140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CADE-DA0A-4FE1-B735-4A7A8DAEE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583236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8525-1E5A-448A-ACF2-BC95CC12A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583236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442E-93DF-4E48-837B-C6DF9F287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583236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64CC-22B4-4F31-80CF-F52BC146E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583236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E8A5-11E9-4B78-8E1A-EE1AC3CB7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000" y="259920"/>
            <a:ext cx="5832360" cy="32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22F1-CFC0-465E-801E-495EF04D2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583236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4140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F39F-B1AD-4C6C-9984-3C2031AC1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583236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4140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2D29-0772-4E01-9EB3-22006CCEC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583236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4140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723C-EFB0-4FAA-A428-5374A47A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583236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66cc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http://echa.europa.eu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1D726-F90A-47CA-9F4D-DDCD6D85D3A1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2"/>
          <a:stretch/>
        </p:blipFill>
        <p:spPr>
          <a:xfrm>
            <a:off x="6372360" y="404640"/>
            <a:ext cx="2266920" cy="525600"/>
          </a:xfrm>
          <a:prstGeom prst="rect">
            <a:avLst/>
          </a:prstGeom>
          <a:ln w="0">
            <a:noFill/>
          </a:ln>
        </p:spPr>
      </p:pic>
      <p:sp>
        <p:nvSpPr>
          <p:cNvPr id="6" name="Line 8"/>
          <p:cNvSpPr/>
          <p:nvPr/>
        </p:nvSpPr>
        <p:spPr>
          <a:xfrm>
            <a:off x="395280" y="6093000"/>
            <a:ext cx="8353440" cy="0"/>
          </a:xfrm>
          <a:prstGeom prst="line">
            <a:avLst/>
          </a:prstGeom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http://echa.europa.eu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1280" y="1483920"/>
            <a:ext cx="79200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 u="sng">
                <a:solidFill>
                  <a:srgbClr val="3366cc"/>
                </a:solidFill>
                <a:uFillTx/>
                <a:latin typeface="Arial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3366cc"/>
                </a:solidFill>
                <a:latin typeface="Arial"/>
              </a:rPr>
              <a:t>Progress report on </a:t>
            </a:r>
            <a:br>
              <a:rPr sz="3600"/>
            </a:br>
            <a:r>
              <a:rPr b="1" lang="en-US" sz="3600" spc="-1" strike="noStrike">
                <a:solidFill>
                  <a:srgbClr val="3366cc"/>
                </a:solidFill>
                <a:latin typeface="Arial"/>
              </a:rPr>
              <a:t>Operations</a:t>
            </a:r>
            <a:endParaRPr b="1" lang="en-US" sz="36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00000" y="4869000"/>
            <a:ext cx="7129440" cy="105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ACH CA meet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26 September 2008, Brussel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http://echa.europa.eu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58323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3366cc"/>
                </a:solidFill>
                <a:uFillTx/>
                <a:latin typeface="Arial"/>
              </a:rPr>
              <a:t>Pre-registration</a:t>
            </a:r>
            <a:endParaRPr b="1" lang="en-US" sz="32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686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ntermediate list of pre-registered substanc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ady for publicat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On ECHA website early October before the stakeholder workshop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rcRect l="0" t="12920" r="1181" b="36915"/>
          <a:stretch/>
        </p:blipFill>
        <p:spPr>
          <a:xfrm>
            <a:off x="1440" y="3141720"/>
            <a:ext cx="91602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http://echa.europa.eu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774072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3366cc"/>
                </a:solidFill>
                <a:uFillTx/>
                <a:latin typeface="Arial"/>
              </a:rPr>
              <a:t>Registrations, inquiries, PPORDs</a:t>
            </a:r>
            <a:endParaRPr b="1" lang="en-US" sz="32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More than 700 dossiers (email &amp; registered mail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PORD: 361 - Germany 50%, France 19%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quiry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(non phase-in substances)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: 305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gistrations: 83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(mostly intermediates)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very dossier processed within deadlin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http://echa.europa.eu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37236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Dossier statistics:</a:t>
            </a:r>
            <a:br>
              <a:rPr sz="2800"/>
            </a:b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22 September 2008</a:t>
            </a:r>
            <a:endParaRPr b="1" lang="en-US" sz="28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95280" y="1268280"/>
          <a:ext cx="8305920" cy="3179880"/>
        </p:xfrm>
        <a:graphic>
          <a:graphicData uri="http://schemas.openxmlformats.org/drawingml/2006/table">
            <a:tbl>
              <a:tblPr/>
              <a:tblGrid>
                <a:gridCol w="1384200"/>
                <a:gridCol w="1384560"/>
                <a:gridCol w="1384200"/>
                <a:gridCol w="1384200"/>
                <a:gridCol w="1384200"/>
                <a:gridCol w="1384560"/>
              </a:tblGrid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bmissions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5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"Initial"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cepted for processing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ssing the TCC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plete dossiers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quiry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5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5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7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PORD notification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1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5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265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7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4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rmediates (on site)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5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rmediates (transported)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5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istration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5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2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5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4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9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2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Rectangle 56"/>
          <p:cNvSpPr/>
          <p:nvPr/>
        </p:nvSpPr>
        <p:spPr>
          <a:xfrm>
            <a:off x="468360" y="4581360"/>
            <a:ext cx="835164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* Accepted for processing: number of dossiers containing the necessary information for processing them i.e. perform a completeness check. Examples of dossiers not accepted for processing are: dossiers without submission form, submission form not filled in correctly, information mismatch between the submission form and the IUCLID 5 dossier, company not signed up in REACH IT, same dossier submitted twice, no substance information, etc.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http://echa.europa.eu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774072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3366cc"/>
                </a:solidFill>
                <a:uFillTx/>
                <a:latin typeface="Arial"/>
              </a:rPr>
              <a:t>Registrations, inquiries, PPORDs</a:t>
            </a:r>
            <a:endParaRPr b="1" lang="en-US" sz="32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ools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PPORD TCC tool now onlin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Inquiry TCC tool under development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Next step: transition to REACH-I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esting of the system until end of September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-drafting of SOP for processing submission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ew web pages and user manual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anual transitional procedures in early stage to secure submission and deadlin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http://echa.europa.eu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58323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3366cc"/>
                </a:solidFill>
                <a:uFillTx/>
                <a:latin typeface="Arial"/>
              </a:rPr>
              <a:t>REACH-IT</a:t>
            </a:r>
            <a:endParaRPr b="1" lang="en-US" sz="32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794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ystem operational 24 hours/day since 1 June 2008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2 minor unscheduled downtimes (50 and 28 minutes)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Helpdesk: 236 incidents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umber increasing rapidly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questions mostly related to user accounts issues, requests for deletion due to errors, advice for pre-registering substances without EC numbers…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User manuals and FAQ to provide specific assistance to industr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nnections to Member States for 16 functioning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http://echa.europa.eu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920" y="259920"/>
            <a:ext cx="640872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3366cc"/>
                </a:solidFill>
                <a:uFillTx/>
                <a:latin typeface="Arial"/>
              </a:rPr>
              <a:t>REACH-IT for pre-registration</a:t>
            </a:r>
            <a:endParaRPr b="1" lang="en-US" sz="32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6868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ompany sign-up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ird party representative sign-up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on-line and bulk pre-registration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15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creating a pre-registration on-lin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15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submitting a pre-registration (on-line and bulk)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15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viewing and downloading submission report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15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updating a pre-registration (except substance identity)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15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overview of all your pre-registration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15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accessing the pre-SIEF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15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pre-SIEF functionaliti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http://echa.europa.eu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4920" y="259920"/>
            <a:ext cx="752472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3366cc"/>
                </a:solidFill>
                <a:uFillTx/>
                <a:latin typeface="Arial"/>
              </a:rPr>
              <a:t>Bulk pre-registration</a:t>
            </a:r>
            <a:endParaRPr b="1" lang="en-US" sz="32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pic>
        <p:nvPicPr>
          <p:cNvPr id="104" name="Picture 7" descr=""/>
          <p:cNvPicPr/>
          <p:nvPr/>
        </p:nvPicPr>
        <p:blipFill>
          <a:blip r:embed="rId1"/>
          <a:stretch/>
        </p:blipFill>
        <p:spPr>
          <a:xfrm>
            <a:off x="-3240" y="674640"/>
            <a:ext cx="9151920" cy="55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http://echa.europa.eu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58323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3366cc"/>
                </a:solidFill>
                <a:uFillTx/>
                <a:latin typeface="Arial"/>
              </a:rPr>
              <a:t>REACH-IT</a:t>
            </a:r>
            <a:endParaRPr b="1" lang="en-US" sz="32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New release delivered on 8 Septembe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anual submission procedures replaced for registrations, inquiries, PPORD notifications, and Annex XV dossier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Online dossiers creation of PPORD notification and inquiri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ssignment and distribution of registration numbers for NONS (Directive 67/548/EEC)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jor testing until end of Septembe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http://echa.europa.eu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58323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3366cc"/>
                </a:solidFill>
                <a:uFillTx/>
                <a:latin typeface="Arial"/>
              </a:rPr>
              <a:t>REACH-IT</a:t>
            </a:r>
            <a:endParaRPr b="1" lang="en-US" sz="32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MS train-the-trainer confirme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1-2 October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cludes hand-on sessions 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cc"/>
                </a:solidFill>
                <a:latin typeface="Arial"/>
              </a:rPr>
              <a:t>creating a dossier using IUCLID</a:t>
            </a:r>
            <a:endParaRPr b="0" lang="en-US" sz="2400" spc="-1" strike="noStrike">
              <a:solidFill>
                <a:srgbClr val="3366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cc"/>
                </a:solidFill>
                <a:latin typeface="Arial"/>
              </a:rPr>
              <a:t>data submission</a:t>
            </a:r>
            <a:endParaRPr b="0" lang="en-US" sz="2400" spc="-1" strike="noStrike">
              <a:solidFill>
                <a:srgbClr val="3366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cc"/>
                </a:solidFill>
                <a:latin typeface="Arial"/>
              </a:rPr>
              <a:t>searching the REACH-IT database</a:t>
            </a:r>
            <a:endParaRPr b="0" lang="en-US" sz="2400" spc="-1" strike="noStrike">
              <a:solidFill>
                <a:srgbClr val="3366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cc"/>
                </a:solidFill>
                <a:latin typeface="Arial"/>
              </a:rPr>
              <a:t>assignment and distribution of registration numbers for NONS</a:t>
            </a:r>
            <a:endParaRPr b="0" lang="en-US" sz="2400" spc="-1" strike="noStrike">
              <a:solidFill>
                <a:srgbClr val="3366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http://echa.europa.eu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58323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3366cc"/>
                </a:solidFill>
                <a:uFillTx/>
                <a:latin typeface="Arial"/>
              </a:rPr>
              <a:t>IUCLID 5</a:t>
            </a:r>
            <a:endParaRPr b="1" lang="en-US" sz="32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Next features before end of year under current contrac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NIF migration tool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October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dvanced query tool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November)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Generation of CSR reports according to format published by ECHA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November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eb services for interfacing IUCLID with industry system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ECD IUCLID User Group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rioritisation of new features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ew contract in preparation to be signed before end of year for integrating new featur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http://echa.europa.eu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58323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3366cc"/>
                </a:solidFill>
                <a:uFillTx/>
                <a:latin typeface="Arial"/>
              </a:rPr>
              <a:t>Overview</a:t>
            </a:r>
            <a:endParaRPr b="1" lang="en-US" sz="32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Pre-registra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Registration, PPORD, inquir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REACH-I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IUCLID 5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SA/CSR too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http://echa.europa.eu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58323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3366cc"/>
                </a:solidFill>
                <a:uFillTx/>
                <a:latin typeface="Arial"/>
              </a:rPr>
              <a:t>CSA/CSR tool</a:t>
            </a:r>
            <a:endParaRPr b="1" lang="en-US" sz="32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ool for preparing exposure scenarios and carrying out the chemical safety assessment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all for tender completed - Start of work: October 2008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arget date for initial version very challenging: autumn 2009 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vers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xtraction of data from IUCLID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orkflow support for building exposure scenario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xposure estimation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Risk characterisation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Reporting in the CSR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http://echa.europa.eu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0" y="1125000"/>
            <a:ext cx="9144000" cy="49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64960" indent="-26496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64960" indent="-26496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64960" indent="-26496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64960" indent="-26496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64960" indent="-264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ank you for your atten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1" lang="en-US" sz="32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http://echa.europa.eu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58323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3366cc"/>
                </a:solidFill>
                <a:uFillTx/>
                <a:latin typeface="Arial"/>
              </a:rPr>
              <a:t>Pre-registration</a:t>
            </a:r>
            <a:endParaRPr b="1" lang="en-US" sz="32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More than halfway through pre-registration period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10.000 Companies from all 27 MS + EAA signed up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Top countries: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cc"/>
                </a:solidFill>
                <a:latin typeface="Arial"/>
              </a:rPr>
              <a:t>Germany (2.000), UK (1.500), NL (1.000), </a:t>
            </a:r>
            <a:br>
              <a:rPr sz="2400"/>
            </a:br>
            <a:r>
              <a:rPr b="0" lang="en-GB" sz="2400" spc="-1" strike="noStrike">
                <a:solidFill>
                  <a:srgbClr val="3366cc"/>
                </a:solidFill>
                <a:latin typeface="Arial"/>
              </a:rPr>
              <a:t>France (900), Italy and Ireland (650)</a:t>
            </a:r>
            <a:endParaRPr b="0" lang="en-US" sz="2400" spc="-1" strike="noStrike">
              <a:solidFill>
                <a:srgbClr val="3366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number of sign-ups is increasing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cc"/>
                </a:solidFill>
                <a:latin typeface="Arial"/>
              </a:rPr>
              <a:t>600 per week in August</a:t>
            </a:r>
            <a:endParaRPr b="0" lang="en-US" sz="2400" spc="-1" strike="noStrike">
              <a:solidFill>
                <a:srgbClr val="3366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cc"/>
                </a:solidFill>
                <a:latin typeface="Arial"/>
              </a:rPr>
              <a:t>800 per week in September</a:t>
            </a:r>
            <a:endParaRPr b="0" lang="en-US" sz="2400" spc="-1" strike="noStrike">
              <a:solidFill>
                <a:srgbClr val="3366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http://echa.europa.eu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4560" y="259920"/>
            <a:ext cx="58323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66cc"/>
                </a:solidFill>
                <a:latin typeface="Arial"/>
              </a:rPr>
              <a:t>Legal entities signed up</a:t>
            </a:r>
            <a:endParaRPr b="1" lang="en-US" sz="36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5003640" y="1541520"/>
            <a:ext cx="36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total = 9887</a:t>
            </a:r>
            <a:r>
              <a:rPr b="0" lang="en-GB" sz="28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3366cc"/>
                </a:solidFill>
                <a:latin typeface="Arial"/>
              </a:rPr>
              <a:t>(22.9.2008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"/>
          <p:cNvPicPr/>
          <p:nvPr/>
        </p:nvPicPr>
        <p:blipFill>
          <a:blip r:embed="rId1"/>
          <a:stretch/>
        </p:blipFill>
        <p:spPr>
          <a:xfrm>
            <a:off x="-25560" y="765000"/>
            <a:ext cx="91346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http://echa.europa.eu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58323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3366cc"/>
                </a:solidFill>
                <a:uFillTx/>
                <a:latin typeface="Arial"/>
              </a:rPr>
              <a:t>Pre-registration</a:t>
            </a:r>
            <a:endParaRPr b="1" lang="en-US" sz="32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Bulk pre-registration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cided to limit to 500 substances per fil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operational since 22 July 2008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ow the most used pre-registration method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10% failure after submiss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on-line pre-registration remains important: </a:t>
            </a:r>
            <a:br>
              <a:rPr sz="2400"/>
            </a:b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&gt;6.000 pre-registrations per week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limit of 10.000 on the number of substances that can be submitted without prior approva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http://echa.europa.eu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0" descr=""/>
          <p:cNvPicPr/>
          <p:nvPr/>
        </p:nvPicPr>
        <p:blipFill>
          <a:blip r:embed="rId1"/>
          <a:stretch/>
        </p:blipFill>
        <p:spPr>
          <a:xfrm>
            <a:off x="-36360" y="620640"/>
            <a:ext cx="9111960" cy="55180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560" y="259920"/>
            <a:ext cx="60498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66cc"/>
                </a:solidFill>
                <a:latin typeface="Arial"/>
              </a:rPr>
              <a:t>Pre-registrations per week</a:t>
            </a:r>
            <a:endParaRPr b="1" lang="en-US" sz="36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1619280" y="134136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total = 374 812</a:t>
            </a:r>
            <a:r>
              <a:rPr b="0" lang="en-GB" sz="28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3366cc"/>
                </a:solidFill>
                <a:latin typeface="Arial"/>
              </a:rPr>
              <a:t>(22.9.2008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5003640" y="974880"/>
            <a:ext cx="12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111641 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  <a:ea typeface="Arial"/>
              </a:rPr>
              <a:t>↑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7381800" y="97488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98038 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  <a:ea typeface="Arial"/>
              </a:rPr>
              <a:t>↑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http://echa.europa.eu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"/>
          <p:cNvPicPr/>
          <p:nvPr/>
        </p:nvPicPr>
        <p:blipFill>
          <a:blip r:embed="rId1"/>
          <a:stretch/>
        </p:blipFill>
        <p:spPr>
          <a:xfrm>
            <a:off x="6480" y="738360"/>
            <a:ext cx="9129600" cy="53812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4560" y="259920"/>
            <a:ext cx="58323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66cc"/>
                </a:solidFill>
                <a:latin typeface="Arial"/>
              </a:rPr>
              <a:t>Pre-registrations</a:t>
            </a:r>
            <a:endParaRPr b="1" lang="en-US" sz="36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3635280" y="1973160"/>
            <a:ext cx="53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revised total = 188 185</a:t>
            </a:r>
            <a:r>
              <a:rPr b="0" lang="en-GB" sz="28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3366cc"/>
                </a:solidFill>
                <a:latin typeface="Arial"/>
              </a:rPr>
              <a:t>(22.9.2008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http://echa.europa.eu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58323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3366cc"/>
                </a:solidFill>
                <a:uFillTx/>
                <a:latin typeface="Arial"/>
              </a:rPr>
              <a:t>Pre-registration</a:t>
            </a:r>
            <a:endParaRPr b="1" lang="en-US" sz="32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More than halfway through pre-registration period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itial estimations already reached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cc"/>
                </a:solidFill>
                <a:latin typeface="Arial"/>
              </a:rPr>
              <a:t>More than 150.000 valid pre-registrations</a:t>
            </a:r>
            <a:endParaRPr b="0" lang="en-US" sz="2400" spc="-1" strike="noStrike">
              <a:solidFill>
                <a:srgbClr val="3366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cc"/>
                </a:solidFill>
                <a:latin typeface="Arial"/>
              </a:rPr>
              <a:t>40.000 different substances pre-registered</a:t>
            </a:r>
            <a:endParaRPr b="0" lang="en-US" sz="2400" spc="-1" strike="noStrike">
              <a:solidFill>
                <a:srgbClr val="3366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Top countries: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cc"/>
                </a:solidFill>
                <a:latin typeface="Arial"/>
              </a:rPr>
              <a:t>Germany (67.000), UK (40.000), NL (18.000), </a:t>
            </a:r>
            <a:br>
              <a:rPr sz="2400"/>
            </a:br>
            <a:r>
              <a:rPr b="0" lang="en-GB" sz="2400" spc="-1" strike="noStrike">
                <a:solidFill>
                  <a:srgbClr val="3366cc"/>
                </a:solidFill>
                <a:latin typeface="Arial"/>
              </a:rPr>
              <a:t>Italy (15.500), France (11.000) and Spain (10.000)</a:t>
            </a:r>
            <a:endParaRPr b="0" lang="en-US" sz="2400" spc="-1" strike="noStrike">
              <a:solidFill>
                <a:srgbClr val="3366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2 trading companies have pre-registered the complete EC list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http://echa.europa.eu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58323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3366cc"/>
                </a:solidFill>
                <a:uFillTx/>
                <a:latin typeface="Arial"/>
              </a:rPr>
              <a:t>Pre-registration</a:t>
            </a:r>
            <a:endParaRPr b="1" lang="en-US" sz="32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News alert 19/09/2008 on issues of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who can appoint an OR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pre-registration of substances that are not phase-in substanc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pre-registrations covering the entire EC inventory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pre-registrations with names that do not refer to any chemical name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deleting a pre-registrat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ECHA limiting the number of substances that can be submitted via bulk pre-registration without prior approval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4T16:40:57Z</dcterms:created>
  <dc:creator>makelpe</dc:creator>
  <dc:description/>
  <dc:language>en-US</dc:language>
  <cp:lastModifiedBy>Wayne Morris</cp:lastModifiedBy>
  <dcterms:modified xsi:type="dcterms:W3CDTF">2008-10-07T11:46:05Z</dcterms:modified>
  <cp:revision>130</cp:revision>
  <dc:subject/>
  <dc:title>Slide 1</dc:title>
</cp:coreProperties>
</file>