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3c8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22C-CAE9-4C6B-BE59-9D5FED5B6E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DEB1-C708-4A99-8710-3D1B4250FB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25F-63BB-4C1D-9A74-43023ABD49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933-FFA9-45FD-8922-32E060E860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E85-00E4-4FE4-B217-3643D92544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795-015A-4B88-BDB3-91B7FCCAF0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115-3683-473D-AD30-849E2BF5DB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FF2-645B-49C2-8E95-5DA8569BAC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111C-0D0B-44EA-949A-3366E605E0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700AB3-DBB9-4161-B96A-2C9887E23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Belly wraps led to interaction with the REACH ‘brand’.  Wrap opened onto the page with the ad for Business &amp; Finance publication.  Business plus was a full wrap, so had to be opened up to get into the magazine it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D51-49DA-47AF-AC6B-342A75F414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7B8C85-150B-4F7F-AA23-5EB53067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3B1B-13A2-4527-AAC8-2FF079B8D7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CABB-30BD-4B1D-AB4B-F024ECBE3E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29F7-A277-4588-8020-626186427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98F9-58DD-4777-B740-3B498FBF4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9D8D-02C1-4CBE-AF2D-3B5F83244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E857-77E0-435E-B208-95A9DEF35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5957F-57C7-4602-B6A2-72D939BA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2D1BA-102F-4087-A5FE-FC029955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84024-AA27-4688-B720-EFAAD9F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3BA2A-0BBF-477A-B95C-12FD9031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DC65D-DD3F-404E-8103-8F1DC3E6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B089B-C409-4373-A94A-012A6BC4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BD6C6-D6CA-464A-B375-6BF88B1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43E0-7A9F-4823-9703-6C4005776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591E-4186-45ED-8675-FFBACF2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C89FB-50A5-4E86-8633-2A961CD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5C500-3A22-462A-ACE7-A27FA48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A1433-96D5-4916-A398-ED2A3990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D6F29-3ABC-492B-82D4-7AD209C0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921D-24F8-4021-B6C9-0EF33FC52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0D54-2B92-4741-9BB7-482710205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3187-EB95-47ED-9C75-CC78E3ED7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325C-2577-493D-9F97-77ADA2DF7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1EF9-57FC-4DCF-A897-C62705A3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BF24-B0C7-4F69-B16D-EC01EDA5E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ACA8-C8EB-4EC6-9080-AE03B73F3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icture2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3c8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59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53c8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70B-57F5-49A7-858E-D825BEDFD679}" type="slidenum">
              <a:rPr b="0" lang="en-US" sz="1400" spc="-1" strike="noStrike">
                <a:solidFill>
                  <a:srgbClr val="153c8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logo"/>
          <p:cNvPicPr/>
          <p:nvPr/>
        </p:nvPicPr>
        <p:blipFill>
          <a:blip r:embed="rId10"/>
          <a:stretch/>
        </p:blipFill>
        <p:spPr>
          <a:xfrm>
            <a:off x="108000" y="6093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Reach Logo"/>
          <p:cNvPicPr/>
          <p:nvPr/>
        </p:nvPicPr>
        <p:blipFill>
          <a:blip r:embed="rId11"/>
          <a:stretch/>
        </p:blipFill>
        <p:spPr>
          <a:xfrm>
            <a:off x="1116000" y="6210360"/>
            <a:ext cx="165564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icture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ogo"/>
          <p:cNvPicPr/>
          <p:nvPr/>
        </p:nvPicPr>
        <p:blipFill>
          <a:blip r:embed="rId3"/>
          <a:srcRect l="0" t="0" r="0" b="16770"/>
          <a:stretch/>
        </p:blipFill>
        <p:spPr>
          <a:xfrm>
            <a:off x="73080" y="5989680"/>
            <a:ext cx="1042920" cy="8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Reach Logo"/>
          <p:cNvPicPr/>
          <p:nvPr/>
        </p:nvPicPr>
        <p:blipFill>
          <a:blip r:embed="rId4"/>
          <a:stretch/>
        </p:blipFill>
        <p:spPr>
          <a:xfrm>
            <a:off x="1187280" y="6210360"/>
            <a:ext cx="1656000" cy="67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3c8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852800" y="6244920"/>
            <a:ext cx="187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02240" y="6244920"/>
            <a:ext cx="138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53c8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87E1-59F2-4150-9E70-367854899631}" type="slidenum">
              <a:rPr b="0" lang="en-US" sz="1400" spc="-1" strike="noStrike">
                <a:solidFill>
                  <a:srgbClr val="153c8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5"/>
          </p:nvPr>
        </p:nvSpPr>
        <p:spPr>
          <a:xfrm>
            <a:off x="2222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achright.i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53c8c"/>
                </a:solidFill>
                <a:latin typeface="Verdana"/>
              </a:rPr>
              <a:t>REACH Awareness Campaign</a:t>
            </a:r>
            <a:br>
              <a:rPr sz="3200"/>
            </a:br>
            <a:r>
              <a:rPr b="1" i="1" lang="en-US" sz="3200" spc="-1" strike="noStrike">
                <a:solidFill>
                  <a:srgbClr val="153c8c"/>
                </a:solidFill>
                <a:latin typeface="Verdana"/>
              </a:rPr>
              <a:t>Ireland</a:t>
            </a:r>
            <a:br>
              <a:rPr sz="3200"/>
            </a:b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53c8c"/>
                </a:solidFill>
                <a:latin typeface="Verdana"/>
              </a:rPr>
              <a:t>REACH CA, September 25-26th 2008</a:t>
            </a:r>
            <a:endParaRPr b="0" lang="en-US" sz="24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Chemicals Survey Methodology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16 NACE codes – M/I/DU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10,606 businesses targetted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Part A phone survey (3590 companies; 1719 = chemical user; 48%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Part B online (1690 companies, 613 completed – 36%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Chemicals Survey – Awareness level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39% were aware - 61% were not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Awareness highest in manufacturing sectors (&gt; 40%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Lowest in wholesalers/non chemical industries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53c8c"/>
                </a:solidFill>
                <a:latin typeface="Verdana"/>
              </a:rPr>
              <a:t>Awareness v Company Size </a:t>
            </a:r>
            <a:br>
              <a:rPr sz="3000"/>
            </a:br>
            <a:r>
              <a:rPr b="0" lang="en-US" sz="3000" spc="-1" strike="noStrike">
                <a:solidFill>
                  <a:srgbClr val="153c8c"/>
                </a:solidFill>
                <a:latin typeface="Verdana"/>
              </a:rPr>
              <a:t>(1039 sample size)</a:t>
            </a:r>
            <a:endParaRPr b="0" lang="en-US" sz="3000" spc="-1" strike="noStrike">
              <a:solidFill>
                <a:srgbClr val="153c8c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573440"/>
                <a:gridCol w="36561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ware of R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n 1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to 5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to 10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to 25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 to 50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500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c8c"/>
                </a:solidFill>
                <a:latin typeface="Verdana"/>
              </a:rPr>
              <a:t>Source of Initial REACH Awareness (599 sample size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grpSp>
        <p:nvGrpSpPr>
          <p:cNvPr id="126" name="Group 30"/>
          <p:cNvGrpSpPr/>
          <p:nvPr/>
        </p:nvGrpSpPr>
        <p:grpSpPr>
          <a:xfrm>
            <a:off x="684360" y="1413000"/>
            <a:ext cx="7488000" cy="4392360"/>
            <a:chOff x="684360" y="1413000"/>
            <a:chExt cx="7488000" cy="4392360"/>
          </a:xfrm>
        </p:grpSpPr>
        <p:pic>
          <p:nvPicPr>
            <p:cNvPr id="127" name="Picture 31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748800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2"/>
            <p:cNvSpPr/>
            <p:nvPr/>
          </p:nvSpPr>
          <p:spPr>
            <a:xfrm>
              <a:off x="6488640" y="5145120"/>
              <a:ext cx="119124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Arial"/>
                </a:rPr>
                <a:t>N = 5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153c8c"/>
                </a:solidFill>
                <a:latin typeface="Verdana"/>
              </a:rPr>
              <a:t>Thank You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  <p:pic>
        <p:nvPicPr>
          <p:cNvPr id="130" name="Picture 4" descr="logo"/>
          <p:cNvPicPr/>
          <p:nvPr/>
        </p:nvPicPr>
        <p:blipFill>
          <a:blip r:embed="rId1"/>
          <a:stretch/>
        </p:blipFill>
        <p:spPr>
          <a:xfrm>
            <a:off x="3780000" y="3789360"/>
            <a:ext cx="19936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Media &amp; Direct Mails – (2006 to 2008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REACH “brand” 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53c8c"/>
                </a:solidFill>
                <a:latin typeface="Verdana"/>
              </a:rPr>
              <a:t>Logo and “reachright” moniker</a:t>
            </a:r>
            <a:endParaRPr b="0" lang="en-US" sz="24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4 press campaign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National, local and trade magazine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Google adwords and online ad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53c8c"/>
                </a:solidFill>
                <a:latin typeface="Verdana"/>
              </a:rPr>
              <a:t>3x DM campaigns (36,000+ SMEs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Seminars &amp; Events – (2006 to 2008)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6 Breakfast briefings Q1 2006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National Seminar – May 2007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9 Regional Events (Aug 07-May 08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Multiple stakeholder events (30+)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53c8c"/>
                </a:solidFill>
                <a:latin typeface="Verdana"/>
              </a:rPr>
              <a:t>Other routes to awarenes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53c8c"/>
                </a:solidFill>
                <a:latin typeface="Verdana"/>
              </a:rPr>
              <a:t>Inspectors – specific questions asked</a:t>
            </a: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3c8c"/>
                </a:solidFill>
                <a:latin typeface="Verdana"/>
              </a:rPr>
              <a:t>2007 – General querie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3c8c"/>
                </a:solidFill>
                <a:latin typeface="Verdana"/>
              </a:rPr>
              <a:t>2008 – Role, Info in SC, Preparations</a:t>
            </a:r>
            <a:endParaRPr b="0" lang="en-US" sz="28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53c8c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53c8c"/>
                </a:solidFill>
                <a:latin typeface="Verdana"/>
              </a:rPr>
              <a:t>Number of ‘impressions’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9640" y="1700280"/>
            <a:ext cx="8064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30000"/>
              </a:lnSpc>
              <a:spcBef>
                <a:spcPts val="550"/>
              </a:spcBef>
              <a:buClr>
                <a:srgbClr val="4eb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557000"/>
            <a:ext cx="8678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Media campaign 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IE" sz="2100" spc="-1" strike="noStrike">
                <a:solidFill>
                  <a:srgbClr val="153c8c"/>
                </a:solidFill>
                <a:latin typeface="Verdana"/>
              </a:rPr>
              <a:t>81% of ABC1 adults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Direct Mail (postcard)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36,000 businesses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Seminars/events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1200+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Google adwords &amp; online ads 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&gt;2.7 million 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impressions.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53c8c"/>
                </a:solidFill>
                <a:latin typeface="Verdana"/>
              </a:rPr>
              <a:t>     </a:t>
            </a:r>
            <a:endParaRPr b="0" lang="en-US" sz="2100" spc="-1" strike="noStrike">
              <a:solidFill>
                <a:srgbClr val="153c8c"/>
              </a:solidFill>
              <a:latin typeface="Verdana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834-5737-4CE2-A329-AD290B40F2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83534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reachright.ie</a:t>
            </a:r>
            <a:r>
              <a:rPr b="1" lang="en-GB" sz="2400" spc="-1" strike="noStrike">
                <a:solidFill>
                  <a:srgbClr val="153c8c"/>
                </a:solidFill>
                <a:latin typeface="Verdana"/>
              </a:rPr>
              <a:t> awareness is growing!</a:t>
            </a:r>
            <a:r>
              <a:rPr b="1" lang="en-GB" sz="4000" spc="-1" strike="noStrike">
                <a:solidFill>
                  <a:srgbClr val="153c8c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153c8c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484280"/>
          <a:ext cx="3332160" cy="3821040"/>
        </p:xfrm>
        <a:graphic>
          <a:graphicData uri="http://schemas.openxmlformats.org/drawingml/2006/table">
            <a:tbl>
              <a:tblPr/>
              <a:tblGrid>
                <a:gridCol w="1663560"/>
                <a:gridCol w="801720"/>
                <a:gridCol w="866880"/>
              </a:tblGrid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l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TR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Re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ealth &amp; Safety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Reach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8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hemic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0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Environmental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.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ealth &amp; Safety legis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2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H.S.A Re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1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Chemical saf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53c8c"/>
                          </a:solidFill>
                          <a:latin typeface="Verdana"/>
                          <a:ea typeface="Arial"/>
                        </a:rPr>
                        <a:t>3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CFF4-A8E4-47C8-97CB-0D8E48BF1FE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324000" y="2708280"/>
            <a:ext cx="338436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54"/>
          <p:cNvSpPr/>
          <p:nvPr/>
        </p:nvSpPr>
        <p:spPr>
          <a:xfrm>
            <a:off x="587880" y="112536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53c8c"/>
                </a:solidFill>
                <a:latin typeface="Arial Unicode MS"/>
                <a:ea typeface="ＭＳ Ｐゴシック"/>
              </a:rPr>
              <a:t>February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95640" y="1413000"/>
          <a:ext cx="4610160" cy="3985920"/>
        </p:xfrm>
        <a:graphic>
          <a:graphicData uri="http://schemas.openxmlformats.org/drawingml/2006/table">
            <a:tbl>
              <a:tblPr/>
              <a:tblGrid>
                <a:gridCol w="2509920"/>
                <a:gridCol w="1009800"/>
                <a:gridCol w="10904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CTR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reac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safety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HSA 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s reg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hazardous chemic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Chemical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53c8c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Oval 106"/>
          <p:cNvSpPr/>
          <p:nvPr/>
        </p:nvSpPr>
        <p:spPr>
          <a:xfrm>
            <a:off x="4140360" y="1773360"/>
            <a:ext cx="4464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4"/>
          <p:cNvSpPr/>
          <p:nvPr/>
        </p:nvSpPr>
        <p:spPr>
          <a:xfrm>
            <a:off x="4192560" y="112536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53c8c"/>
                </a:solidFill>
                <a:latin typeface="Arial Unicode MS"/>
                <a:ea typeface="ＭＳ Ｐゴシック"/>
              </a:rPr>
              <a:t>April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8"/>
          <p:cNvSpPr/>
          <p:nvPr/>
        </p:nvSpPr>
        <p:spPr>
          <a:xfrm>
            <a:off x="324000" y="537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5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53c8c"/>
                </a:solidFill>
                <a:latin typeface="Arial"/>
              </a:rPr>
              <a:t>During the Feb 2007 campaign only 28% of those searching for REACH information searched for the REACHRIGHT website vs 76% in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1700280"/>
          <a:ext cx="8147160" cy="3962160"/>
        </p:xfrm>
        <a:graphic>
          <a:graphicData uri="http://schemas.openxmlformats.org/drawingml/2006/table">
            <a:tbl>
              <a:tblPr/>
              <a:tblGrid>
                <a:gridCol w="2880000"/>
                <a:gridCol w="2447640"/>
                <a:gridCol w="28195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to d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76"/>
          <p:cNvSpPr/>
          <p:nvPr/>
        </p:nvSpPr>
        <p:spPr>
          <a:xfrm>
            <a:off x="1258920" y="549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3c8c"/>
                </a:solidFill>
                <a:latin typeface="Arial"/>
              </a:rPr>
              <a:t>Helpdesk Activity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3c8c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53c8c"/>
                </a:solidFill>
                <a:latin typeface="Verdana"/>
              </a:rPr>
              <a:t>Chemicals Usage Survey</a:t>
            </a:r>
            <a:endParaRPr b="0" lang="en-US" sz="4400" spc="-1" strike="noStrike">
              <a:solidFill>
                <a:srgbClr val="153c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9:11:17Z</dcterms:created>
  <dc:creator>geraldine_nolan</dc:creator>
  <dc:description/>
  <dc:language>en-US</dc:language>
  <cp:lastModifiedBy>Wayne Morris</cp:lastModifiedBy>
  <dcterms:modified xsi:type="dcterms:W3CDTF">2008-10-07T11:41:32Z</dcterms:modified>
  <cp:revision>25</cp:revision>
  <dc:subject/>
  <dc:title>Slide 1</dc:title>
</cp:coreProperties>
</file>