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3c8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05E4-478E-421A-8C4C-2C935E64F1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751B-32B6-4F23-80CE-7F7696F668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5B41-1B0B-4398-942B-E96216B1D0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09A4-FD88-4AF8-BF42-4C7D0E6CEE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1EB7-58B8-4BD1-BA72-4AEBF3EBA5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4AF0-A6E3-489E-AC46-F75E3FA5FE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8722-48DC-405F-9A1F-3F0C5CD8C7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AC87-B8BD-4C1C-BA31-35D0548A08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935B-00FA-473C-A8DF-28BCCA972C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C7B501-EC67-4B81-A5FA-299E1EAB1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Belly wraps led to interaction with the REACH ‘brand’.  Wrap opened onto the page with the ad for Business &amp; Finance publication.  Business plus was a full wrap, so had to be opened up to get into the magazine it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85AE-3EEA-4575-B903-050ADADAF7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D3FFFB-5A50-424B-8857-48D0595D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D76E-B2F2-4E80-9935-4B6AC2E0E7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F1F2-C4CD-4650-ADEF-02C641E3C2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FC26-8B90-4AD6-A2D4-50942FC9E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671A-BAF7-4BDD-8FB0-6FBE5EBF9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B0A5-C747-44B5-B27A-486A3D73A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0422-5440-4260-9BB1-52A951A2C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1D88F-3F72-43B4-BCFB-6E77A2AC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05404-6808-40A3-82A8-0F1C4A62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635A5-E18D-4779-91BD-C5CDAAA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6F15B-CB9B-42D0-82BA-389B3814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17DDE-883E-4995-A894-8183294F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E5A30-ED59-498B-9DAC-49B32F26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99249-9A57-499F-B9E1-BE7A944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A7F0-5080-4367-BF3A-A77E6EA13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1F832-2CA2-44B1-B05F-D4346770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425CF-77B1-47E9-A215-09FC525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01380-3632-4325-82F3-EAF23317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F3365-30C0-45D0-83BD-7C64EEDB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BA67A-766F-411D-A12F-8BF53583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310D-D33C-4082-88DE-587030A07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3F87-F504-416B-B2E1-5FE9A6DF8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A220-E312-44EF-9A28-E96D7150B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48C6-075D-4D25-B10E-D8CEB7721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6D4D-E104-4F81-8A0D-56AB345A6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89AC-54D6-42D1-A126-3AF4163FE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CF55-FC1B-4D7D-82F9-50B7F7531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icture2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3c8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659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53c8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F3B2-FE0B-48F1-BC95-8117A6FEBF4C}" type="slidenum">
              <a:rPr b="0" lang="en-US" sz="1400" spc="-1" strike="noStrike">
                <a:solidFill>
                  <a:srgbClr val="153c8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logo"/>
          <p:cNvPicPr/>
          <p:nvPr/>
        </p:nvPicPr>
        <p:blipFill>
          <a:blip r:embed="rId10"/>
          <a:stretch/>
        </p:blipFill>
        <p:spPr>
          <a:xfrm>
            <a:off x="108000" y="60930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Reach Logo"/>
          <p:cNvPicPr/>
          <p:nvPr/>
        </p:nvPicPr>
        <p:blipFill>
          <a:blip r:embed="rId11"/>
          <a:stretch/>
        </p:blipFill>
        <p:spPr>
          <a:xfrm>
            <a:off x="1116000" y="6210360"/>
            <a:ext cx="165564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icture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ogo"/>
          <p:cNvPicPr/>
          <p:nvPr/>
        </p:nvPicPr>
        <p:blipFill>
          <a:blip r:embed="rId3"/>
          <a:srcRect l="0" t="0" r="0" b="16770"/>
          <a:stretch/>
        </p:blipFill>
        <p:spPr>
          <a:xfrm>
            <a:off x="73080" y="5989680"/>
            <a:ext cx="1042920" cy="868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Reach Logo"/>
          <p:cNvPicPr/>
          <p:nvPr/>
        </p:nvPicPr>
        <p:blipFill>
          <a:blip r:embed="rId4"/>
          <a:stretch/>
        </p:blipFill>
        <p:spPr>
          <a:xfrm>
            <a:off x="1187280" y="6210360"/>
            <a:ext cx="1656000" cy="67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3c8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852800" y="6244920"/>
            <a:ext cx="187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02240" y="6244920"/>
            <a:ext cx="1384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53c8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34CC-C3E3-49A5-BDA4-5CB6DDE2F895}" type="slidenum">
              <a:rPr b="0" lang="en-US" sz="1400" spc="-1" strike="noStrike">
                <a:solidFill>
                  <a:srgbClr val="153c8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dt" idx="5"/>
          </p:nvPr>
        </p:nvSpPr>
        <p:spPr>
          <a:xfrm>
            <a:off x="2222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eachright.ie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53c8c"/>
                </a:solidFill>
                <a:latin typeface="Verdana"/>
              </a:rPr>
              <a:t>REACH Awareness Campaign</a:t>
            </a:r>
            <a:br>
              <a:rPr sz="3200"/>
            </a:br>
            <a:r>
              <a:rPr b="1" i="1" lang="en-US" sz="3200" spc="-1" strike="noStrike">
                <a:solidFill>
                  <a:srgbClr val="153c8c"/>
                </a:solidFill>
                <a:latin typeface="Verdana"/>
              </a:rPr>
              <a:t>Ireland</a:t>
            </a:r>
            <a:br>
              <a:rPr sz="3200"/>
            </a:b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53c8c"/>
                </a:solidFill>
                <a:latin typeface="Verdana"/>
              </a:rPr>
              <a:t>REACH CA, September 25-26th 2008</a:t>
            </a:r>
            <a:endParaRPr b="0" lang="en-US" sz="24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53c8c"/>
                </a:solidFill>
                <a:latin typeface="Verdana"/>
              </a:rPr>
              <a:t>Chemicals Survey Methodology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16 NACE codes – M/I/DU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10,606 businesses targetted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Part A phone survey (3590 companies; 1719 = chemical user; 48%)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Part B online (1690 companies, 613 completed – 36%)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53c8c"/>
                </a:solidFill>
                <a:latin typeface="Verdana"/>
              </a:rPr>
              <a:t>Chemicals Survey – Awareness level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39% were aware - 61% were not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Awareness highest in manufacturing sectors (&gt; 40%)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Lowest in wholesalers/non chemical industries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53c8c"/>
                </a:solidFill>
                <a:latin typeface="Verdana"/>
              </a:rPr>
              <a:t>Awareness v Company Size </a:t>
            </a:r>
            <a:br>
              <a:rPr sz="3000"/>
            </a:br>
            <a:r>
              <a:rPr b="0" lang="en-US" sz="3000" spc="-1" strike="noStrike">
                <a:solidFill>
                  <a:srgbClr val="153c8c"/>
                </a:solidFill>
                <a:latin typeface="Verdana"/>
              </a:rPr>
              <a:t>(1039 sample size)</a:t>
            </a:r>
            <a:endParaRPr b="0" lang="en-US" sz="3000" spc="-1" strike="noStrike">
              <a:solidFill>
                <a:srgbClr val="153c8c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573440"/>
                <a:gridCol w="365616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ware of R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than 1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to 5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to 10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 to 25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 to 50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than 50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ource of Initial REACH Awareness (599 sample size)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grpSp>
        <p:nvGrpSpPr>
          <p:cNvPr id="126" name="Group 30"/>
          <p:cNvGrpSpPr/>
          <p:nvPr/>
        </p:nvGrpSpPr>
        <p:grpSpPr>
          <a:xfrm>
            <a:off x="684360" y="1413000"/>
            <a:ext cx="7488000" cy="4392360"/>
            <a:chOff x="684360" y="1413000"/>
            <a:chExt cx="7488000" cy="4392360"/>
          </a:xfrm>
        </p:grpSpPr>
        <p:pic>
          <p:nvPicPr>
            <p:cNvPr id="127" name="Picture 31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748800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2"/>
            <p:cNvSpPr/>
            <p:nvPr/>
          </p:nvSpPr>
          <p:spPr>
            <a:xfrm>
              <a:off x="6488640" y="5145120"/>
              <a:ext cx="119124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Arial"/>
                </a:rPr>
                <a:t>N = 5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153c8c"/>
                </a:solidFill>
                <a:latin typeface="Verdana"/>
              </a:rPr>
              <a:t>Thank You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pic>
        <p:nvPicPr>
          <p:cNvPr id="130" name="Picture 4" descr="logo"/>
          <p:cNvPicPr/>
          <p:nvPr/>
        </p:nvPicPr>
        <p:blipFill>
          <a:blip r:embed="rId1"/>
          <a:stretch/>
        </p:blipFill>
        <p:spPr>
          <a:xfrm>
            <a:off x="3780000" y="3789360"/>
            <a:ext cx="19936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53c8c"/>
                </a:solidFill>
                <a:latin typeface="Verdana"/>
              </a:rPr>
              <a:t>Media &amp; Direct Mails – (2006 to 2008)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REACH “brand” 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53c8c"/>
                </a:solidFill>
                <a:latin typeface="Verdana"/>
              </a:rPr>
              <a:t>Logo and “reachright” moniker</a:t>
            </a:r>
            <a:endParaRPr b="0" lang="en-US" sz="24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4 press campaign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National, local and trade magazine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Google adwords and online ad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3x DM campaigns (36,000+ SMEs)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53c8c"/>
                </a:solidFill>
                <a:latin typeface="Verdana"/>
              </a:rPr>
              <a:t>Seminars &amp; Events – (2006 to 2008)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6 Breakfast briefings Q1 2006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National Seminar – May 2007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9 Regional Events (Aug 07-May 08)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Multiple stakeholder events (30+)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53c8c"/>
                </a:solidFill>
                <a:latin typeface="Verdana"/>
              </a:rPr>
              <a:t>Other routes to awarenes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Inspectors – specific questions asked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3c8c"/>
                </a:solidFill>
                <a:latin typeface="Verdana"/>
              </a:rPr>
              <a:t>2007 – General querie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3c8c"/>
                </a:solidFill>
                <a:latin typeface="Verdana"/>
              </a:rPr>
              <a:t>2008 – Role, Info in SC, Preparation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53c8c"/>
                </a:solidFill>
                <a:latin typeface="Verdana"/>
              </a:rPr>
              <a:t>Results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53c8c"/>
                </a:solidFill>
                <a:latin typeface="Verdana"/>
              </a:rPr>
              <a:t>Number of ‘impressions’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9640" y="1700280"/>
            <a:ext cx="8064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30000"/>
              </a:lnSpc>
              <a:spcBef>
                <a:spcPts val="550"/>
              </a:spcBef>
              <a:buClr>
                <a:srgbClr val="4eb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1557000"/>
            <a:ext cx="8678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Media campaign </a:t>
            </a: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81% of ABC1 adults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Direct Mail (postcard)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36,000 businesses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Seminars/events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1200+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Google adwords &amp; online ads 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&gt;2.7 million 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impressions.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     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C392-DB49-4787-881A-F89BAAF6189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83534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reachright.ie</a:t>
            </a:r>
            <a:r>
              <a:rPr b="1" lang="en-GB" sz="2400" spc="-1" strike="noStrike">
                <a:solidFill>
                  <a:srgbClr val="153c8c"/>
                </a:solidFill>
                <a:latin typeface="Verdana"/>
              </a:rPr>
              <a:t> awareness is growing!</a:t>
            </a:r>
            <a:r>
              <a:rPr b="1" lang="en-GB" sz="4000" spc="-1" strike="noStrike">
                <a:solidFill>
                  <a:srgbClr val="153c8c"/>
                </a:solidFill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153c8c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484280"/>
          <a:ext cx="3332160" cy="3821040"/>
        </p:xfrm>
        <a:graphic>
          <a:graphicData uri="http://schemas.openxmlformats.org/drawingml/2006/table">
            <a:tbl>
              <a:tblPr/>
              <a:tblGrid>
                <a:gridCol w="1663560"/>
                <a:gridCol w="801720"/>
                <a:gridCol w="866880"/>
              </a:tblGrid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W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Cli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CTR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Re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2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Health &amp; Safety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2.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H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Reachr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28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Chemic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.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0.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Environmental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.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Health &amp; Safety legis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2.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H.S.A Re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Chemical saf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3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43BB-8ED3-4124-B343-BDED1076CC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4"/>
          <p:cNvSpPr/>
          <p:nvPr/>
        </p:nvSpPr>
        <p:spPr>
          <a:xfrm>
            <a:off x="324000" y="2708280"/>
            <a:ext cx="338436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54"/>
          <p:cNvSpPr/>
          <p:nvPr/>
        </p:nvSpPr>
        <p:spPr>
          <a:xfrm>
            <a:off x="587880" y="112536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53c8c"/>
                </a:solidFill>
                <a:latin typeface="Arial Unicode MS"/>
                <a:ea typeface="ＭＳ Ｐゴシック"/>
              </a:rPr>
              <a:t>February 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95640" y="1413000"/>
          <a:ext cx="4610160" cy="3985920"/>
        </p:xfrm>
        <a:graphic>
          <a:graphicData uri="http://schemas.openxmlformats.org/drawingml/2006/table">
            <a:tbl>
              <a:tblPr/>
              <a:tblGrid>
                <a:gridCol w="2509920"/>
                <a:gridCol w="1009800"/>
                <a:gridCol w="10904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CTR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reac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chemical safety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HSA R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Chemical Re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Chemicals regu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hazardous chemic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R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Chemical Re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Chemical 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Oval 106"/>
          <p:cNvSpPr/>
          <p:nvPr/>
        </p:nvSpPr>
        <p:spPr>
          <a:xfrm>
            <a:off x="4140360" y="1773360"/>
            <a:ext cx="4464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4"/>
          <p:cNvSpPr/>
          <p:nvPr/>
        </p:nvSpPr>
        <p:spPr>
          <a:xfrm>
            <a:off x="4192560" y="112536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53c8c"/>
                </a:solidFill>
                <a:latin typeface="Arial Unicode MS"/>
                <a:ea typeface="ＭＳ Ｐゴシック"/>
              </a:rPr>
              <a:t>April 20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8"/>
          <p:cNvSpPr/>
          <p:nvPr/>
        </p:nvSpPr>
        <p:spPr>
          <a:xfrm>
            <a:off x="324000" y="5373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5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53c8c"/>
                </a:solidFill>
                <a:latin typeface="Arial"/>
              </a:rPr>
              <a:t>During the Feb 2007 campaign only 28% of those searching for REACH information searched for the REACHRIGHT website vs 76% in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1700280"/>
          <a:ext cx="8147160" cy="3962160"/>
        </p:xfrm>
        <a:graphic>
          <a:graphicData uri="http://schemas.openxmlformats.org/drawingml/2006/table">
            <a:tbl>
              <a:tblPr/>
              <a:tblGrid>
                <a:gridCol w="2880000"/>
                <a:gridCol w="2447640"/>
                <a:gridCol w="28195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to d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76"/>
          <p:cNvSpPr/>
          <p:nvPr/>
        </p:nvSpPr>
        <p:spPr>
          <a:xfrm>
            <a:off x="1258920" y="549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53c8c"/>
                </a:solidFill>
                <a:latin typeface="Arial"/>
              </a:rPr>
              <a:t>Helpdesk Activity Per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53c8c"/>
                </a:solidFill>
                <a:latin typeface="Verdana"/>
              </a:rPr>
              <a:t>Chemicals Usage Survey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9:11:17Z</dcterms:created>
  <dc:creator>geraldine_nolan</dc:creator>
  <dc:description/>
  <dc:language>en-US</dc:language>
  <cp:lastModifiedBy>Wayne Morris</cp:lastModifiedBy>
  <dcterms:modified xsi:type="dcterms:W3CDTF">2008-10-07T11:41:32Z</dcterms:modified>
  <cp:revision>25</cp:revision>
  <dc:subject/>
  <dc:title>Slide 1</dc:title>
</cp:coreProperties>
</file>