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2E48-00C4-4AB3-98FF-48144388B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463B-B91A-4CAF-96BA-FB35898E5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99E9-7DAF-48D6-997B-E70AA111D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EF96-02BF-4126-853B-4C2031172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CA10-CA44-41FE-88FB-7DF48E88B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BA51-BAA2-4854-8422-3E5BCB827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FC45-5CF0-453F-AA11-69A3A7EA0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B78A-0FF0-4244-BCC2-75A14ACCC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6DD7-E297-480A-AD54-5E497A9F4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8471-4AF1-4603-83B9-DA28A6AFB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B416-B455-4F6D-844D-7A1C73A40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09D1-3EA3-4A19-AE71-BE8C6B3B3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FB3-E456-490C-A8C1-DBC80FF0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5B9-7776-454F-A9B4-A619FE34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106-0337-4E83-936D-4572F102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A7C-DEE2-470A-98EC-0763E51B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536-5674-4FDF-B31C-3160591C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FF2F-6C95-4AEA-BF9B-8EFB57A6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68F-61BB-4987-89A1-5A32549F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10A-CA7E-4CE6-89B3-0D3EABA2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36B7-2AE2-40D1-8A94-A0C34249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DF2-4516-484A-88B4-BAD1F13C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7BD-9E78-42CD-8E9D-02E7FE2B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1FB-8FA9-4B65-8DEE-8EDD5E88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40B3-BE56-4120-B862-87AA5DDAF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nergy Efficient and Smart Appliance Agreement of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m Air Conditioner Standard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ffective June 1, 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3531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hwashe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efficiency of standard and compact dishwa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ts to 307 kWh/yr, 5.0 gal/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ct units to 222 kWh/yr, 3.5 gal/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the July 2011 ENERGY STAR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energy use 14% and water use 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effect Jan. 1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App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s will jointly petition EPA to provide a 5% credit on energy use for products that meet an EPA-set definition of “smart applianc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include ability to push some energy use to off-peak periods when receive a signal from the ut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s will also work together to develop a proposal for tax or other incentives for appliances with “smart” cap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Tax Incentiv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tension of current incentives that expire 12/31/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97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and Water Savings from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65768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240" y="18284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Home Appliance 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ouncil for an Energy-Efficien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ance Standards Awarene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Resources Defense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ju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iance to Save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west Power and Conservation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east Energy Efficiency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 Energy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Response and Smart Grid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Federation of Amer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Consumer Law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iance for Water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440" y="6858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uppor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men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52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S ENERGY/INCREASES ENERGY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product energy efficiency and saves more than 9 Quads of energy over 30 years (U.S. uses ~100 qua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S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nd incentivizes clothes washers and dishwashers to use nearly 5 trillion less gallons of water over 3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S GHG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-year savings ~550 MMT CO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S CONSUMERS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savings to consumers in the billions of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RT GRID AND ENERGY 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-starts the Smart Grid by helping to deploy smart appliances nationwide and enable consumers to better take advantage of demand-response and real-time pricing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s smart appliance contributions through ENERGY 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men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s 46,000 manufacturing jobs (19,000 direct; 27,000 supply chain/support) and creates new jobs, including bringing back to the US jobs that were outsourced in earlier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ER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izes manufacturers to increase the production of super-efficient products—over and above ENERGY STAR levels—thereby saving even more energy and water and encouraging more job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 EFFICI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s up resources now devoted to rulemakings on thes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Refrigerato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30% energy savings relative to current standards for major product categ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tandards take effect Jan. 1,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 to develop new test procedure to measure ice-maker energy use by Dec. 31, 2012.  This is used for standard effective ~20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rigerator/Freezer Energy Savings by Categ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99104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av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 defrost freez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-mount and side-by-side R/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al defrost freez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-mount R/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ous smaller catego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s are 5% lower for built-in un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Clothes Washe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standards effective Jan. 1,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tandards for top-loaders and front-lo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-loader standards have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-loaders: 43% energy savings and 52% water savings relative to current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-loaders: 26% energy savings and 16% water savings (2015), 37% energy savings and 37% water savings (20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thes Washer Standa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EF/W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979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Stand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 Stand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 Stand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-load, std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6/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/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/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-load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/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-load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5/18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6/1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1/1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-load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/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thes Drye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 energy savings using current test proced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, test procedure modified to address effectiveness of auto termination.  This provides significant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energy savings from reduced over-dr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takes effect Jan. 1,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21:28:16Z</dcterms:created>
  <dc:creator>Steve Nadel</dc:creator>
  <dc:description/>
  <dc:language>en-US</dc:language>
  <cp:lastModifiedBy>kmessner</cp:lastModifiedBy>
  <dcterms:modified xsi:type="dcterms:W3CDTF">2010-07-27T15:00:11Z</dcterms:modified>
  <cp:revision>30</cp:revision>
  <dc:subject/>
  <dc:title>Summary of Agreement on Appliance Efficiency Standards and Related Issues</dc:title>
</cp:coreProperties>
</file>