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D3349-B25A-4304-91FC-CDA28CE717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4E5D9-31FB-4B5E-883A-E12465EB80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F5C55-C429-45C0-9E5E-C6EBFBE5A3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CE989-2F7E-49B3-B382-F81A1CDC37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581D8-6E4B-41EE-8CAA-8C9EF758FB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DAB09-3230-47BE-8E58-1F6701ACD7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2022D-1BB8-48A3-A0F1-08ADDBFEC7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FF67C-5EFD-4256-9672-6F197CB7AE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781DF-82B0-45B6-90B2-AA0FF5ACF1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74D26-5BA7-4F19-9F6E-EBFD10565E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31826-F0ED-4387-87F3-D82A603F8C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A37FF-D8E4-4A1C-BFFD-1E7781724F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3D43-EDCB-4B11-8E54-C948D70CD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1932-9C63-4986-A4D6-CAE512FDA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0ABA-8697-484D-8D65-404D3A914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9B96-6785-4422-918B-71057A189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9CD2-B66F-4AFA-A092-B6C413032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1DB9-B98E-4830-8B4B-FCDBACC1D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C383-0608-4235-875D-660C862A5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6CE8-2B87-47AF-A309-35A647ACC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92AA-7539-47D5-8C61-CB49DD278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930C-E4F8-4FD2-8B38-51DAB8538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4891-D013-4C75-B5B0-92B8D720D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4F70-3AAA-4740-92F2-1D4C855FE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B2956-136E-497E-9479-0524726A44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7924680" cy="19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Energy Efficient and Smart Appliance Agreement of 20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om Air Conditioner Standards</a:t>
            </a: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ffective June 1, 201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0" descr=""/>
          <p:cNvPicPr/>
          <p:nvPr/>
        </p:nvPicPr>
        <p:blipFill>
          <a:blip r:embed="rId1"/>
          <a:stretch/>
        </p:blipFill>
        <p:spPr>
          <a:xfrm>
            <a:off x="2438280" y="1295280"/>
            <a:ext cx="435312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hwasher Standa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ove efficiency of standard and compact dishwash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 units to 307 kWh/yr, 5.0 gal/cy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ct units to 222 kWh/yr, 3.5 gal/cy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e as the July 2011 ENERGY STAR spec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ces energy use 14% and water use 23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s effect Jan. 1,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art Applia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es will jointly petition EPA to provide a 5% credit on energy use for products that meet an EPA-set definition of “smart appliance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 include ability to push some energy use to off-peak periods when receive a signal from the util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es will also work together to develop a proposal for tax or other incentives for appliances with “smart” capabil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0592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posed Tax Incentives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extension of current incentives that expire 12/31/1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"/>
          <p:cNvPicPr/>
          <p:nvPr/>
        </p:nvPicPr>
        <p:blipFill>
          <a:blip r:embed="rId1"/>
          <a:stretch/>
        </p:blipFill>
        <p:spPr>
          <a:xfrm>
            <a:off x="533520" y="2209680"/>
            <a:ext cx="839772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ergy and Water Savings from Stand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2362320" y="1295280"/>
            <a:ext cx="4657680" cy="514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371240" y="1828440"/>
            <a:ext cx="6705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ociation of Home Appliance Manufactur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ouncil for an Energy-Efficient Econom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ance Standards Awareness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al Resources Defense Counc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rthjust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iance to Save Ene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rthwest Power and Conservation Counc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rtheast Energy Efficiency Partnersh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ifornia Energy Commi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mand Response and Smart Grid Coal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umer Federation of Americ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ional Consumer Law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iance for Water Effici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685440" y="68580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uppor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reement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80520" y="11430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VES ENERGY/INCREASES ENERGY INDEPEND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oves product energy efficiency and saves more than 9 Quads of energy over 30 years (U.S. uses ~100 quad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VES W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ires and incentivizes clothes washers and dishwashers to use nearly 5 trillion less gallons of water over 30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DUCES GHG EMIS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-year savings ~550 MMT CO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VES CONSUMERS MON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 savings to consumers in the billions of $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RT GRID AND ENERGY ST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mp-starts the Smart Grid by helping to deploy smart appliances nationwide and enable consumers to better take advantage of demand-response and real-time pricing opportun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gnizes smart appliance contributions through ENERGY ST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reement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O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acts 46,000 manufacturing jobs (19,000 direct; 27,000 supply chain/support) and creates new jobs, including bringing back to the US jobs that were outsourced in earlier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UFACTURER INCEN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entivizes manufacturers to increase the production of super-efficient products—over and above ENERGY STAR levels—thereby saving even more energy and water and encouraging more job cre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E EFFICI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ees up resources now devoted to rulemakings on these produ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Refrigerator Standa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-30% energy savings relative to current standards for major product categori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standards take effect Jan. 1, 20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E to develop new test procedure to measure ice-maker energy use by Dec. 31, 2012.  This is used for standard effective ~201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rigerator/Freezer Energy Savings by Categ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457200" y="1600200"/>
          <a:ext cx="8229600" cy="4991040"/>
        </p:xfrm>
        <a:graphic>
          <a:graphicData uri="http://schemas.openxmlformats.org/drawingml/2006/table">
            <a:tbl>
              <a:tblPr/>
              <a:tblGrid>
                <a:gridCol w="1981080"/>
                <a:gridCol w="6248520"/>
              </a:tblGrid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Saving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to defrost freez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p-mount and side-by-side R/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ual defrost freez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ttom-mount R/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-25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rious smaller categor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ndards are 5% lower for built-in uni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Clothes Washer Standa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l standards effective Jan. 1, 20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t standards for top-loaders and front-loa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p-loader standards have two ph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nt-loaders: 43% energy savings and 52% water savings relative to current stand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p-loaders: 26% energy savings and 16% water savings (2015), 37% energy savings and 37% water savings (201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othes Washer Standards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MEF/WF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457200" y="1600200"/>
          <a:ext cx="8229600" cy="497988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tego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rrent Standar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5 Standar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8 Standar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p-load, std siz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6/9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72/8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0/6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ont-load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d siz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2/4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p-load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ac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5/18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6/14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81/11.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ont-load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ac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72/8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othes Dryer Standa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% energy savings using current test proced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addition, test procedure modified to address effectiveness of auto termination.  This provides significant</a:t>
            </a: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tional energy savings from reduced over-dry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 takes effect Jan. 1, 20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3T21:28:16Z</dcterms:created>
  <dc:creator>Steve Nadel</dc:creator>
  <dc:description/>
  <dc:language>en-US</dc:language>
  <cp:lastModifiedBy>kmessner</cp:lastModifiedBy>
  <dcterms:modified xsi:type="dcterms:W3CDTF">2010-07-27T15:00:11Z</dcterms:modified>
  <cp:revision>30</cp:revision>
  <dc:subject/>
  <dc:title>Summary of Agreement on Appliance Efficiency Standards and Related Issues</dc:title>
</cp:coreProperties>
</file>